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97321-74C9-46D4-87CC-BDCA1092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4DDA5-A6C6-45A7-91A9-AA2A2393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16A02C-0FA4-4C93-93D1-97F5B2B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4F031B-0F60-40FF-915A-15F7E9E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7EB4F4-6AE4-4463-958D-9D4FB1EB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932807-8037-4146-B3CF-044EBA3E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A21AE-D6E9-41C7-AB45-3A5B3ED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8A67EE-DEB7-4D9F-9BAE-4467CDA4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C4A2A-09C9-440B-B01D-B463067F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1E46D-9E04-4E13-B5AB-48EB937B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07C41D-6FB0-4B1E-B15A-7D4FDF44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862AC1-3A9F-49B6-9FB2-DB2FC61B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30E91-CADA-4928-B9FD-CB9DB873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323045-C4F6-4D3E-8C32-0C7F7764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FB1E73-6975-409C-A791-AD60CD1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46E68-8D06-4087-A76E-DC19DB6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CD2E08-319F-4532-A669-B9C4BE06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09E758-62D7-4329-98E5-AC4C248E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A1FE32-9B60-4158-B8A5-DA127A9F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91EE31-9A7E-4B62-9598-2AFF0EA4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A57F77-77B2-4B41-9327-8349332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6D73D8-E44D-42A7-8D6B-66AED34F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0B7AC6-9E68-48F2-842B-E7112628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B736F6-7200-45CD-8AE1-3B9F21E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316DEF-4CF8-486B-AB91-30D85BF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B36B6-7A01-4D19-A33E-E8F5543C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DAE4F-D01D-436D-A538-5D034696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FD4899-C200-48CB-8644-ED88BA73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4A6BCC-9515-410D-BF14-385FD2AD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824884-DBBD-4309-A7B3-52AFD8A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A9BA3C-248D-4B49-8653-AFFF4F81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E0D41D-6719-407A-8229-7FCC98FF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088C8-8FD3-490D-A089-F1BFD8FD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9E8201-308D-4C38-A29F-EA00C273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D25EDB-8E7C-4863-961C-B84AACD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BB534-21C2-4505-862F-5DC839A6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D3CC51A-F8D6-4610-B03C-A3702B0E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B443E5-D9B4-48C2-AB6C-25990842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FC0279-23DE-4AE2-9ED4-DAA1E94F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EA667C-1CEE-4D3E-A3EC-E69069AA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0EC8CC-A447-4706-9255-1AB5D272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5FAAF3-F631-4175-A12C-79649056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8A1FF-3F7F-4FBA-9564-FEC85B86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0B218-C2B2-4EB8-9AFE-0E9C3EE4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1BEA7E-A398-4CE4-B4CA-AB7B7C5A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E9425-4838-4B3E-A69E-F41BBA9A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5E412-D09A-4307-B303-C90C5182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45449-E40C-4687-B086-896D95C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1682A-4310-4521-9A2E-BB37280A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4EA9C-8844-4948-B132-8539E179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11DE8-1978-4157-AD75-98916121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40261-D77C-4D14-A069-32F9E804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568C3-8F89-4B46-8D04-65B5D07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8855-FA81-4B63-B66D-58C7A377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D4E18-EDC9-4165-AEAF-74234154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A2D34-3474-49F8-BDFE-CADB2B9C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2066B-C59B-4C54-86F5-E9DEFF91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C6752C-3908-4E26-B4C2-4187F668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01AF2-0CDD-4448-821E-932F1B77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DA6CA-C7AF-40A0-9FD4-1DD89428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6AE39-B08F-4033-AF01-B80B2CF5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DFB5F-B670-49B0-82AB-0C1C3BB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B77E8-CF0A-41D9-BCE5-9A9E5F3E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48291-CEC5-44A5-A65D-A3AEC55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64D5B-2384-4F19-A654-4C30F5E8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5975F-940C-490E-91E9-E1D0274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96288-166B-4FB5-8700-38C40C3D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2DF50-47F6-4B6B-8C79-10A301EE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C13D3-0F3B-47F0-B057-898E037A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0925E-058A-4920-B570-D7F2AFC8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7CADF2-46FA-432D-A314-5C734E45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30B8A4-E297-4CDD-AFDF-D5B3B72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D6E01-5659-4DC2-A919-0DD579EA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E691C0-CEEE-41D9-9887-9232DDF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F1F1DE-EBD6-4A6B-9975-82EBD5E3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138C0-F4A1-49AB-8A5C-82EB68BA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D5FE45-09F6-42B6-8EF7-0D0D5649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F421FE-473C-41AC-B438-96738E86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1B4D3-D3EB-45CC-A56F-F4BC20F2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6F85F-7285-487A-97D3-D7D47811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7073E3-C236-42AE-A525-7AD47C8B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681BC-4BFC-4DED-BB79-5B9EFB9D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B878D-53E5-498B-BC76-247E6D80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18FA3-7E1F-49A5-83D7-6B833652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D7424-8524-4294-8F81-A84A953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9564C-D511-4669-AC94-FB0AFF02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D1911-ACF5-481A-9A0E-36532E4F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20CAC-D451-4BFF-A1F3-390DE114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B030B6-1087-48C1-B07C-391B3E00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07E74-8DB4-40F1-AFD3-E330391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1E654-1D66-4FC0-88B1-08803EBF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EE29D-E3DA-47C9-95A9-1D2031D7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8BF5F-ABC8-42EA-ACB4-C90804DA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2FA90-10A6-4C55-BBC5-5E27C063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86585-4933-4DB2-B7C2-86959001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DAE53-2F9D-41F7-95DD-0147A2A3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2B8780-AFFF-446F-B9A4-EE59B64A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4797C-207A-43CC-8FCD-EB8F7EF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19C54-2485-4B1B-BFFC-42703F92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68A08-47D5-41D4-BFC6-FC42BECF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788F8-4788-492E-A687-17744DB8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453935-C92A-4767-9E89-86A0386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3576B2-E2D5-4D8A-9AC0-90C6663F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711630-D3A4-4EED-B7DB-FADD865E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97948-9153-4B23-A1B2-A8EF5729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254E1-8164-4BE2-A1AF-898C9F01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C2325-59C7-4181-BAA8-20CC1422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2EA636-DF01-458D-B5E9-EE332EE7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161F4-C5AD-41B0-8FB4-02AB5CA5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FFE32-C311-41F8-813E-E9E349F2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86B7C9-7567-4613-8A15-DC214719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073962-8DE2-40A7-9766-44B7FE0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0FC40C-4B2F-4C0C-93E9-63714504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264D7-0FF2-4279-B538-BC00F448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738C2-E483-45C5-BD79-A97DD8DB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27E21-75F5-4339-9444-ACF615E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0DAE2-A5F0-48A6-9670-1806640E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A7B573-7026-4C82-A773-90199CB9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478892-810B-483B-94B4-DC526695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6A9D69-5BBA-4F3F-A0BA-B24ED59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282E-5FF2-4D84-98A0-D4DCDD27D11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9B82-E40D-4972-B239-FE2B5B83AF7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C8B6-90A5-40BA-9FFD-0F2F54B8568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2EA-75C0-4BF3-BB6A-913ED5D1EA3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E643-38E1-40D7-B29B-9E73E53FA43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214E-69F8-47CC-8620-1A30E17EBE8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F49-22CE-411F-BE26-058E48F7144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97BE-8735-4663-B8A8-9403D7C9F72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F8B6-BAE3-4DCE-9146-32B167EB053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54AE-17A5-4389-B9B1-28CA2CF9751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F384-FCD7-4983-ACF4-A2B204674E2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AAA8-E9A9-4874-9640-8569FE23723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0A4F-BBAD-48FA-87F4-A5DB5A9DF58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A0D4-2A43-4B67-9F3F-4C49A7F3A68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5A26-D254-4B0E-B4DD-576980980DF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8C5-CEAC-4A9B-AB22-E5EB33D3F4C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F05-5B0A-4802-834D-91F9F1EAC51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9CD7-9C8F-4439-A966-4C55930BBA2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9F7-EF8C-4DF0-B2DA-1ED28DE219B6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48D9-828D-44D9-8EEF-90F01447D2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frossiana@abv.bg" TargetMode="External"/><Relationship Id="rId2" Type="http://schemas.openxmlformats.org/officeDocument/2006/relationships/hyperlink" Target="mailto:parvanova.m.ivanova@gmail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73040" y="1239840"/>
            <a:ext cx="832968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Изложбите на Националния статистически институт 2020 – 2024 г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54000" y="4192560"/>
            <a:ext cx="209232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Антоанета Илкова – директор на дирекция „Многосекторна статистика, методология и регистри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12.202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1" descr=""/>
          <p:cNvPicPr/>
          <p:nvPr/>
        </p:nvPicPr>
        <p:blipFill>
          <a:blip r:embed="rId1"/>
          <a:stretch/>
        </p:blipFill>
        <p:spPr>
          <a:xfrm>
            <a:off x="2060640" y="2828880"/>
            <a:ext cx="654840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0640" y="2363760"/>
            <a:ext cx="7894800" cy="26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хода на подготовката за отбелязването на 145 годишнина на българската статистика НСИ вече изпрати официално писмо до Столична община за запазване на дат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и.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1142640" y="4889160"/>
            <a:ext cx="607860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БЛАГОДАРЯ ЗА ВНИМАНИЕТ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628560" y="1327320"/>
            <a:ext cx="67802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ез 2020 г. Националният статистически институт (НСИ) стартира първата си изложба на открито, за да постави началото на нова форма на комуникация на статистическата информация с потребителите. Паната със статистическа информация се показват в столицата и други големи градове на България. Тематичният им обхват дава възможност на широката аудитория от подрастващи, академични представители, служители в държавния и частния сектор и граждани да се запознаят с богатството от архивния и съвременния фонд на НСИ, като акцентът винаги се поставя върху актуалните теми от действителността.  От тогава до днес тази инициатива се превърна в традиция и през 2024 г.  се проведе петата изложба на НС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743120" y="1062000"/>
            <a:ext cx="5803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45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0 г.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140 години българска статистика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23840" y="3129120"/>
            <a:ext cx="70898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ез 2020 г. изложбата е посветена на 140 г. българска статист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редена е в галерия на открито „Мост на влюбените“ при НДК – Соф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На 60 пана (по 30 на български и английски език) е представен богатият фонд от архивни и съвременни данни на НС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 рамките на три седмици (от 25 юни до 16 юли) изложбата е посетена от хиляди граждани и гости на столиц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540160" y="1100160"/>
            <a:ext cx="5100480" cy="117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        </a:t>
            </a: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1 г.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Преброяване 2021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28560" y="2455920"/>
            <a:ext cx="788688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Отново на „Моста на влюбените“ при НДК – София са изложени 60-те пана, които представят историята на преброяванията в България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Изложбата е част от комуникационната кампания за Преброяване 2021 и е на разположение на публиката във втората половина на месец авгус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През септември е изложена в Русе, Варна и Пловди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790640" y="1193400"/>
            <a:ext cx="54388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2022 г. </a:t>
            </a:r>
            <a:br>
              <a:rPr sz="4000"/>
            </a:br>
            <a:r>
              <a:rPr b="1" lang="bg-BG" sz="4000" spc="-1" strike="noStrike">
                <a:solidFill>
                  <a:srgbClr val="000000"/>
                </a:solidFill>
                <a:latin typeface="Calibri"/>
              </a:rPr>
              <a:t>„Статистика за всеки“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080720" y="2541600"/>
            <a:ext cx="7140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зложбата е позиционирана в Галерията на открито „Градска градина“ пред Народния театър в София, включва 28 пана (оп 14 на български и на английски език) и е на разположение от 2 до 18 септемв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Фокусът е върху статистическите продукти и услуги, начините за разпространение на информацията и възможностите за комуникация с НСИ. Важно място в изложбата заемат Европейската олимпиада по статистика за ученици и Международният конкурс за статистически плакат за ученици и студенти, в които българските отбори  имат спечелени първи мест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31920" y="1108080"/>
            <a:ext cx="6703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023 г.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„Да преобразим нашия свят. Цели за устойчиво развитие до 2030 г.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28560" y="2324160"/>
            <a:ext cx="788688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Calibri"/>
              </a:rPr>
              <a:t>На 28 пана (по 14 на български и английски език)  в градината „Кристал“ в София са изобразени целите за устойчиво развитие, допълнени с графики и данни на НСИ. Изложбата е показана в София и Русе. Запознаването на обществеността с темата за устойчивото развитие до 2030 г., с нейните индикатори за отчитане и наличните статистически данни се посреща с особено внимание като НСИ получи обратна връзка за полезността на изложбата от потребители от всякакви възрастови, образователни и институционални категории. Много важна е оценка за инициативата, като тя открои навременността и необходимостта да се продължи и в бъдеще да се развива този канал за комуникация със специализираната и с непрофесионалната публик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65360" y="1154160"/>
            <a:ext cx="5548320" cy="12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2024 г.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Calibri"/>
              </a:rPr>
              <a:t>„ Младите хора в България като част от европейското семейство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1255680" y="2639520"/>
            <a:ext cx="6858000" cy="34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Тази година изложбата е в градината пред Народния театър „Иван Вазов“, София и в шест големи града на страната – Варна, Велико Търново, Враца, Пловдив, Бургас, Благоевград и 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повод Европейския ден на статистиката - 20 октомвр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й е „най-младият“ град в България, какъв е делът на заетост на младите хора у нас в различните възрастови групи от 16 до 29 години, колко са висшистите, какви са интересите и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средата на август до края на октомври широката публика имаше възможност да открие за себе си най-любопитните данни, свързани с младеж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Picture 4" descr=""/>
          <p:cNvPicPr/>
          <p:nvPr/>
        </p:nvPicPr>
        <p:blipFill>
          <a:blip r:embed="rId1"/>
          <a:stretch/>
        </p:blipFill>
        <p:spPr>
          <a:xfrm>
            <a:off x="155520" y="988920"/>
            <a:ext cx="22003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1122480"/>
            <a:ext cx="788688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 rot="20703600">
            <a:off x="449280" y="1535040"/>
            <a:ext cx="177480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играта „Селфи с платното, което Ви харесва най-много“ участие взеха общо 39 д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2481120" y="1030320"/>
            <a:ext cx="5519880" cy="420984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5"/>
          <p:cNvSpPr/>
          <p:nvPr/>
        </p:nvSpPr>
        <p:spPr>
          <a:xfrm rot="1587600">
            <a:off x="461520" y="4484520"/>
            <a:ext cx="27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ъв викторината „Сканирай и спечели“ участие взеха 126 душ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370240" y="3709800"/>
            <a:ext cx="4689360" cy="26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Frossiana Nikolova </a:t>
            </a:r>
            <a:r>
              <a:rPr b="0" lang="bg-BG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frossiana@abv.bg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от Варна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, уцелих изложбата на входа на морската градина във Варна, разхождайки бебето и много ми хареса с данни става най-ясно особено много актуална тема за майките тъй като не даваме екрани на децата, за да не затъпяват :) Направих пост и в социалните мрежи с данни имаше много коментари, много добра е съпоставката и със страните от ЕС!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 rot="468000">
            <a:off x="4873680" y="123804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Milena Parvanova </a:t>
            </a:r>
            <a:r>
              <a:rPr b="0" lang="bg-BG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2"/>
              </a:rPr>
              <a:t>parvanova.m.ivanova@gmail.com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 от Търново и честит празник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Изпращам селфи с любимото ми пано (Каква част от младежите живеят с родителите си) и искам да споделя, че инициативата ви е прекрас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Успех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4"/>
          <p:cNvSpPr/>
          <p:nvPr/>
        </p:nvSpPr>
        <p:spPr>
          <a:xfrm rot="21043800">
            <a:off x="380520" y="1112400"/>
            <a:ext cx="415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Здравейт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оздравления! Изложбата Ви съдържа много интересни данни, които вълнуват нашето семей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а и предполагам още много други български семей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лагам моята снимка с пано от изложбата в град Пловдив. С уважени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  <a:ea typeface="Calibri"/>
              </a:rPr>
              <a:t>Пепа Динчева Килиджий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15:16:11Z</dcterms:modified>
  <cp:revision>40</cp:revision>
  <dc:subject/>
  <dc:title>PowerPoint Presentation</dc:title>
</cp:coreProperties>
</file>