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atasha Petrova-Marinova" initials="N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<Relationship Id="rId26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24-11-21T21:37:01.516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D80856-CAA0-44CD-8BD1-E4129A6D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A21931-8E4B-40E7-B184-364424A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B8959-3D43-41D2-9844-2F8A710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B64C1-2B26-440E-87F7-D2E29607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415B6-5DC8-4E40-869F-63B6D3F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56850-FFD1-4BFD-A305-65680993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4C684-1FDF-4909-9D51-F89863DF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5A35C-C5DD-466A-A81D-1828D467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56DFD3-27D7-4AFB-8D18-3CFE0AC7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73C1CC-175F-488C-B01A-48831E5F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63AA26-F739-4661-9E48-0F1698A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FCD99-D2B0-46F8-A616-5782DED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104943-99B5-4D79-8C5E-FCB63C1B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EAAA1A-0A26-4465-B261-B60BBC4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8FBEC-E42E-4191-875D-54FF0B9A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F172AE-FDAA-4829-B838-DE66A55C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5DC04E-CFA3-4C74-943B-396D0A2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3D8BCB-D7BB-4002-804B-BF8D2D2B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E5231F-27F4-4ED5-A72A-FFF4C97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AC3BB9-26B0-47BE-B435-55100A22A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0E68BA-3BBC-4215-BC17-6B784096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C0A37B-7296-4F76-AEFF-8E122300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2F83C6-D62A-4AB8-B9DC-99EDABC0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6E9B3D-C08C-4D2F-ACEC-AD39CB2D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ADFE5-C8C6-4D07-9C24-781D981B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6CCDCE-A55B-413A-814E-D5D7747E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F4A38E-C643-4BA6-B5C4-E426ECBC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3493E1-90E6-4912-8FBE-BE065F45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825B5C-147C-4FC3-8DA7-67933C45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AFBCA0-D92F-48F7-B3F3-D83C243A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74DF55-15DB-4318-B2BB-B4218552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F18454-9319-46EA-8E09-DF3026C6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71A5D8-157A-4447-99A0-2C638961F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515F12-D4EF-4354-9650-BE63DF11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839086-AA1E-4722-93BE-A31A7CA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7440B0-04E9-4226-8792-26D6B6D5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C72E8E-F6A0-478F-A227-160BB0B8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6122C2-5000-4CD1-8837-0D32B2CB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8C81D7-90B8-4474-A9BD-E4842BD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1852E4-D709-4B05-B7E4-2236EA9C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3E632B-B5A6-41D8-A3A4-29DE2D10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13B087-5491-4F3E-9F29-7D6A6BC7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2E1B22-78B8-4200-B134-E414FF4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B2C98B-3FD5-4993-90C1-4C2D6FDE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EC380F-5AB9-4DAD-92E7-1BC5BC50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50A00-A266-4E64-A270-F1BEFB86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13FE7-3E1A-415E-959D-755B8B6F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DB802-E011-4DB7-A9EC-941E692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EED89-6BCE-4C24-9657-049199D1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03387-E20A-4024-9267-0CF4440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19F7E-C382-4A0E-BAB0-15ED93B4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68374-B3C3-47ED-8A8B-33ECE9F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7345D-F2F1-426A-80B9-219490D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1F5F4-61BF-4724-AB8A-D768B33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47492-0D62-46A2-B748-8A63A72A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EF7D2-F420-4655-B26A-CEC8C101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1B206-52D5-4027-8E5C-C6B62F03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FDB081-E57A-4FAE-BC6F-EDABE0A8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B6B3E-47D8-4035-9954-C8047E6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1513E-0AE2-41A8-8FE5-A8ABDD34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8F88C5-9195-4C3C-86B6-D6871F11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3D91CE-67CC-42B4-85F2-5640A0A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599FD-BA35-483F-BD93-814F5ABF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888E9-6802-4B7D-9884-F58D312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A6912-F629-4DE6-898A-6C32004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5BBA6-0260-49C8-900E-DAF3A59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A3908-5145-4006-8DB1-006593E0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8CDB7-A227-4BAE-9A86-8DA12CCB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E6A8F-9B8D-43EB-9DA7-4DAE40A3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AA761-E42E-40E9-9A5C-4D4708CF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84250-6A43-49EF-9C92-0EE0BB1D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833C9-5CF0-4CD6-A7B4-D6B4248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9AC3F-B6CD-4E45-8DF6-81B46FB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7BB4B-1788-49A2-B8D3-6A603B3E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021B5-C5D9-4697-A9F8-04A85A24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FA086-7AFC-4A1D-B74E-96040DE6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3A4FB-21F6-49A8-A4DA-BC03B0FE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546E1-785F-4DD3-9B31-4047ECB4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B2081-2A63-452E-8EDC-05A18CA1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F4324-C2EB-4E96-AC1A-ECC53FF2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236965-A3C9-4624-B87B-E14FA9B9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63624-829F-4362-B96E-EAF10C9F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D930E-8E13-4EE2-819A-5D76E2D8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4DDD9-26BD-4443-AEB9-D58E99AA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E1B05-8F5C-47BF-BF76-B27146A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9EB2C-38F7-4D0B-B994-869650C1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692CD7-4058-4249-9D95-58A400F9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322E9F-8655-432A-B27B-94E845DC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0A968-5B46-47F9-B406-B5383B7F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E64F73-538A-4DA3-B451-5F5341D9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26666-C76A-4A53-95DA-A4070A5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3BCBC-8A62-4629-A1E1-89CD164D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BC6C2-5A8A-4543-B1A6-F8348263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90734-DC30-4E80-8494-D25626BD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66A25-6777-406A-A316-DF8A28CC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DF58F-961C-4FFD-8C87-851BB491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774FE-6A2B-4806-90E6-F123FE1D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848FC2-6345-4BBE-BE47-FEC641B6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F850F-3B15-438B-999F-E66365B5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C6217-C373-4C8F-ADF6-E584CC67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6C887-30BD-485E-9808-A2127BC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59521-1E3B-4930-80A7-9732F45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047A58-7543-411F-BDB3-CF6F049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FB34-6B41-4222-9835-83831863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58FA2-CCBC-40BA-B8B0-399CBB86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22422-3222-4EDA-B816-C02BE179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575B7-FFA4-418F-A940-63290004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7344C-4F15-4993-9841-A445158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DF1AC3-2C2B-4D42-860E-9DE8C8B3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DF55F-1C75-4E57-ABEC-CB8125A2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70BC2-08EA-43AC-B9A7-19563897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58458-158E-494A-A258-B7AEF1B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B7028E-C6EA-4220-9FE1-F90FA0ED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E358A-7F44-4EC5-AD9F-D046C33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51385-F826-4BA0-86BF-A8245D2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054C8-CF4E-4922-B154-6FD5DCA8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32637-68CD-4BBB-8C36-1FA4529E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8DA995-C23D-40BD-B870-D7F05767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88936-1E52-4C87-9E58-DFDA7272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FD0C47-767D-4CF3-9F4A-97644A0E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127C-1E8A-4EBF-BFAB-1E5A7EDF1BD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BCC-CFD0-43BD-9F41-FB98858993B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9E1A-F4EC-4B64-8453-7D8ACC3E635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14E1-45B3-4DA0-A5E3-C8DECF26335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A170-2DCB-416F-B7A4-A7089F3E5E7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52EE-AE29-4A3D-8EE8-03DAF674ADD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39CB-87B1-42B9-A8EB-AFA4D0471A39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4AE9-D531-42D2-9853-C907C1977C7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97CC-ADD1-4C5F-BB5A-E0FCC2B546E6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0253-F3A4-4F08-99D2-575131061B8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9BA-1B76-4BA3-80DC-FAD3E5E24D27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842D-ED96-4BD5-AFC4-CB84473C5DE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DB34-F809-4ABF-A190-69FF128A2868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9223-F41B-4935-A990-55EAA450ACE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20DD-6EE9-461E-BB1D-8529BD2F5E7E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0EFE-F8C3-465D-B71C-15676CB36BC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C59-62D3-4C41-97AB-DDAD2BE05A8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26C3-B930-47C6-80F4-5BB190B7E39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6DF-E563-4F8E-B83B-57945834E37D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F37D-2F00-4221-8E6F-F9DC5DB95D0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ilkova@nsi.bg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nsi.bg/datathon2024/docs/Datathon2024_Diagea.pd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1122480"/>
            <a:ext cx="7886880" cy="15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6fc0"/>
                </a:solidFill>
                <a:latin typeface="Arial"/>
                <a:ea typeface="Arial"/>
              </a:rPr>
              <a:t>Инициативи за повишаване на статистическата култур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280" y="2873520"/>
            <a:ext cx="428652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Антоанета Ил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Директор на дирекция „Многосекторна статистика, методология и регистри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Национален статистически инстит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ул. „Панайот Волов“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+359 2 9857 5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ilkova@nsi.b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6fc0"/>
                </a:solidFill>
                <a:latin typeface="Arial"/>
                <a:ea typeface="Arial"/>
              </a:rPr>
              <a:t>12 – 14 </a:t>
            </a:r>
            <a:r>
              <a:rPr b="0" lang="bg-BG" sz="1200" spc="-1" strike="noStrike">
                <a:solidFill>
                  <a:srgbClr val="006fc0"/>
                </a:solidFill>
                <a:latin typeface="Arial"/>
                <a:ea typeface="Arial"/>
              </a:rPr>
              <a:t>ДЕКЕМВРИ 2024 г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1200" spc="-1" strike="noStrike">
                <a:solidFill>
                  <a:srgbClr val="006fc0"/>
                </a:solidFill>
                <a:latin typeface="Arial"/>
                <a:ea typeface="Arial"/>
              </a:rPr>
              <a:t>гр.  ХИСА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2"/>
          <p:cNvSpPr/>
          <p:nvPr/>
        </p:nvSpPr>
        <p:spPr>
          <a:xfrm>
            <a:off x="1027080" y="1379520"/>
            <a:ext cx="7170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70c0"/>
                </a:solidFill>
                <a:latin typeface="Calibri"/>
                <a:ea typeface="Calibri"/>
              </a:rPr>
              <a:t>Победители през 2024 г. при разработването на тема „Възможности и предизвикателства пред младежкото предприемачество по статистически данни за България“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Straw hats (Сламени шапки) от 51 СУ „Елисавета Багряна“, 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 </a:t>
            </a:r>
            <a:r>
              <a:rPr b="0" lang="ru-RU" sz="16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ДИАГЕА</a:t>
            </a: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 от Средно училище за хуманитарни науки и изкуства „Константин Преславски“, Вар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Calibri"/>
                <a:ea typeface="Calibri"/>
              </a:rPr>
              <a:t>Отбор Rachinski 1 от Професионална гимназия по земеделие „Тодор Рачински“, Генерал Тошев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3" descr=""/>
          <p:cNvPicPr/>
          <p:nvPr/>
        </p:nvPicPr>
        <p:blipFill>
          <a:blip r:embed="rId2"/>
          <a:stretch/>
        </p:blipFill>
        <p:spPr>
          <a:xfrm>
            <a:off x="6580080" y="3781440"/>
            <a:ext cx="18288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1449360" y="2705040"/>
            <a:ext cx="67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6fc0"/>
                </a:solidFill>
                <a:latin typeface="Calibri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Европейска олимпиада по статистика (насочена към ученици от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VI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ми до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X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Международен конкурс за статистически плакат (насочен към ученици на възраст от 9 до 18 г., както и студенти от бакалавърската степен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Дейтатон (насочен към ученици от  Х-ти до Х</a:t>
            </a:r>
            <a:r>
              <a:rPr b="0" lang="en-GB" sz="2100" spc="-1" strike="noStrike">
                <a:solidFill>
                  <a:srgbClr val="0070c0"/>
                </a:solidFill>
                <a:latin typeface="Calibri"/>
              </a:rPr>
              <a:t>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</a:t>
            </a:r>
            <a:r>
              <a:rPr b="0" lang="en-GB" sz="21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Конкурс за статистическо есе (насочен към ученици от 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IX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до</a:t>
            </a:r>
            <a:r>
              <a:rPr b="0" lang="en-US" sz="2100" spc="-1" strike="noStrike">
                <a:solidFill>
                  <a:srgbClr val="0070c0"/>
                </a:solidFill>
                <a:latin typeface="Calibri"/>
              </a:rPr>
              <a:t> XII</a:t>
            </a:r>
            <a:r>
              <a:rPr b="0" lang="bg-BG" sz="2100" spc="-1" strike="noStrike">
                <a:solidFill>
                  <a:srgbClr val="0070c0"/>
                </a:solidFill>
                <a:latin typeface="Calibri"/>
              </a:rPr>
              <a:t>-ти клас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6"/>
          <p:cNvSpPr/>
          <p:nvPr/>
        </p:nvSpPr>
        <p:spPr>
          <a:xfrm>
            <a:off x="728640" y="17208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Конкурс за статистическа инфографика (регионална, Сливен, насочена към ученици от гимназиалния курс)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728640" y="2668680"/>
            <a:ext cx="775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Статистически изложби – София, Благоевград, Бургас, Варна, Велико Търново, Враца, Пловдив (насочени към всички възрастови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групи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728640" y="3618000"/>
            <a:ext cx="76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Списание „Статистика“ – тематични разработки по статистически задания (насочена към ученици от гимназиалния курс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9"/>
          <p:cNvSpPr/>
          <p:nvPr/>
        </p:nvSpPr>
        <p:spPr>
          <a:xfrm>
            <a:off x="728640" y="4567320"/>
            <a:ext cx="76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70c0"/>
                </a:solidFill>
                <a:latin typeface="Calibri"/>
              </a:rPr>
              <a:t>Разработване на визуализации за социалните медии (насочена към ученици от гимназиалния кур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361800" y="1033560"/>
            <a:ext cx="1578240" cy="86832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7"/>
          <p:cNvSpPr/>
          <p:nvPr/>
        </p:nvSpPr>
        <p:spPr>
          <a:xfrm>
            <a:off x="361800" y="2016000"/>
            <a:ext cx="665028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Състезанието е отборно – учител ментор и ученици от едно и също училищ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Две категор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Категория А: ученици от Х -ХII кл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Категория Б: ученици от VIII -IX кла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За да се стигне до Европейския кръг - три етап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1: Тест -период на провеждане -23 дни през януари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2: Анализ на статистически данни (презентация) -период на провеждане -28 дни през февруари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fc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Етап 3</a:t>
            </a: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Публичен кръг за участие в Европейската фаза на статистическата олимпиада – 12 април 2025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378160" y="1144440"/>
            <a:ext cx="36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378160" y="1039680"/>
            <a:ext cx="3449520" cy="103680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"/>
          <p:cNvPicPr/>
          <p:nvPr/>
        </p:nvPicPr>
        <p:blipFill>
          <a:blip r:embed="rId3"/>
          <a:stretch/>
        </p:blipFill>
        <p:spPr>
          <a:xfrm>
            <a:off x="6842160" y="5835600"/>
            <a:ext cx="2185920" cy="3160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2" descr=""/>
          <p:cNvPicPr/>
          <p:nvPr/>
        </p:nvPicPr>
        <p:blipFill>
          <a:blip r:embed="rId4"/>
          <a:stretch/>
        </p:blipFill>
        <p:spPr>
          <a:xfrm>
            <a:off x="6853320" y="155736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1042920" y="1422360"/>
            <a:ext cx="7721640" cy="63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fc0"/>
                </a:solidFill>
                <a:latin typeface="Calibri"/>
              </a:rPr>
              <a:t>В двете категории -</a:t>
            </a:r>
            <a:r>
              <a:rPr b="1" lang="ru-RU" sz="2400" spc="-1" strike="noStrike">
                <a:solidFill>
                  <a:srgbClr val="006fc0"/>
                </a:solidFill>
                <a:latin typeface="Calibri"/>
              </a:rPr>
              <a:t>първите пет класирани отб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Задача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fc0"/>
                </a:solidFill>
                <a:latin typeface="Calibri"/>
              </a:rPr>
              <a:t>Да се подготви и защити </a:t>
            </a:r>
            <a:r>
              <a:rPr b="1" lang="ru-RU" sz="1600" spc="-1" strike="noStrike">
                <a:solidFill>
                  <a:srgbClr val="006fc0"/>
                </a:solidFill>
                <a:latin typeface="Calibri"/>
              </a:rPr>
              <a:t>ИДЕЕН ПРОЕКТ </a:t>
            </a:r>
            <a:r>
              <a:rPr b="0" lang="ru-RU" sz="1600" spc="-1" strike="noStrike">
                <a:solidFill>
                  <a:srgbClr val="006fc0"/>
                </a:solidFill>
                <a:latin typeface="Calibri"/>
              </a:rPr>
              <a:t>за двуминутен видеоклип по предварително зададена тема и </a:t>
            </a:r>
            <a:r>
              <a:rPr b="1" lang="ru-RU" sz="1600" spc="-1" strike="noStrike">
                <a:solidFill>
                  <a:srgbClr val="006fc0"/>
                </a:solidFill>
                <a:latin typeface="Calibri"/>
              </a:rPr>
              <a:t>ПРЕДСТАВЯНЕ НА ОТБ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6fc0"/>
                </a:solidFill>
                <a:latin typeface="Calibri"/>
              </a:rPr>
              <a:t>Гласув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нлайн гласуване на страницата на НСИ -10 дни – 38 785 в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ценяване от 4 членно жу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Церемония по награждаване на победителите в националния кръ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623880" y="1146240"/>
            <a:ext cx="2360520" cy="12985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2"/>
          <a:stretch/>
        </p:blipFill>
        <p:spPr>
          <a:xfrm>
            <a:off x="6083280" y="1247760"/>
            <a:ext cx="14954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681120" y="1081080"/>
            <a:ext cx="773892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Резултати от ЕОС 2024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Участвали – 523 отбора от 148 образователни центрове в България (214 –категория А, и 309 –категория Б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6fc0"/>
                </a:solidFill>
                <a:latin typeface="Calibri"/>
              </a:rPr>
              <a:t>Победител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6fc0"/>
                </a:solidFill>
                <a:latin typeface="Calibri"/>
              </a:rPr>
              <a:t>Категория А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1.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COFFEENG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“ от 2 АЕГ "Томас Джеферсън, София с 99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2.Отбор „ФЕНИКС “ от ПГИ "Иван Илиев Благоевград с 97.75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3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BRILLIANCE“  -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МГ, Русе, 97.59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6fc0"/>
                </a:solidFill>
                <a:latin typeface="Calibri"/>
              </a:rPr>
              <a:t>Категория Б</a:t>
            </a:r>
            <a:r>
              <a:rPr b="0" lang="bg-BG" sz="1800" spc="-1" strike="noStrike">
                <a:solidFill>
                  <a:srgbClr val="006fc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1. Отбор „ 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IM_PRO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ГИМ , Пазарджик, 100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2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DEIMOS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МГ, Добрич, 99.00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3. Отбор „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PRIMA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ВТГ „Г.С.Раковски“, Варна, 98.75 точ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Отбор „ </a:t>
            </a:r>
            <a:r>
              <a:rPr b="0" lang="en-GB" sz="1800" spc="-1" strike="noStrike">
                <a:solidFill>
                  <a:srgbClr val="006fc0"/>
                </a:solidFill>
                <a:latin typeface="Calibri"/>
              </a:rPr>
              <a:t>IM_PRO“ – </a:t>
            </a:r>
            <a:r>
              <a:rPr b="0" lang="ru-RU" sz="1800" spc="-1" strike="noStrike">
                <a:solidFill>
                  <a:srgbClr val="006fc0"/>
                </a:solidFill>
                <a:latin typeface="Calibri"/>
              </a:rPr>
              <a:t>ПГИМ , Пазарджик, спечели четвърто място в Европейския кръ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1"/>
          <a:stretch/>
        </p:blipFill>
        <p:spPr>
          <a:xfrm>
            <a:off x="7218360" y="4349880"/>
            <a:ext cx="16239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449280" y="612720"/>
            <a:ext cx="8237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DATATHON - НСИ 20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Състезанието се проведе за втори пъ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 да насърчи учениците и менторите, които не 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участвали в олимпиадата и конкурса за плакат, или пъ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не са достигнали до призовите места в двете състезани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 се включат и да опитат възможностите си п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изработването на решение върху определена ба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данни. Отново се набляга на екипната работ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аналитичното мислене в група и визуализацията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редлагания краен проду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6469200" y="3789360"/>
            <a:ext cx="18288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284040" y="174600"/>
            <a:ext cx="85838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Календар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иод на регистрация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5 до 19 март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ериод за провеждане на първия кръг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20 март до 8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бликуване на резултатите от първия етап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15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ровеждане на втория етап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от 18 до 20 април 2024 годин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Обявяване на победителите и награждаване: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 20 април 2024 год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2" descr=""/>
          <p:cNvPicPr/>
          <p:nvPr/>
        </p:nvPicPr>
        <p:blipFill>
          <a:blip r:embed="rId1"/>
          <a:stretch/>
        </p:blipFill>
        <p:spPr>
          <a:xfrm>
            <a:off x="6883560" y="4398840"/>
            <a:ext cx="165708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2"/>
          <p:cNvSpPr/>
          <p:nvPr/>
        </p:nvSpPr>
        <p:spPr>
          <a:xfrm>
            <a:off x="241200" y="1282680"/>
            <a:ext cx="89028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300" spc="-1" strike="noStrike">
                <a:solidFill>
                  <a:srgbClr val="006fc0"/>
                </a:solidFill>
                <a:latin typeface="Calibri"/>
              </a:rPr>
              <a:t>Регламен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яко училище имаше право да регистрира до 2 отб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еки отбор включваше от 1 до 3-ма ученика и 1 мент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Всеки ментор имаше право да ръководи само един отб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Менторите регистрираха отборите на сайта на състезани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Участниците в първия етап получиха грамоти за успешно представя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6f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fc0"/>
                </a:solidFill>
                <a:latin typeface="Calibri"/>
              </a:rPr>
              <a:t>Финалистите получиха грамота и парична нагр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Picture 3" descr=""/>
          <p:cNvPicPr/>
          <p:nvPr/>
        </p:nvPicPr>
        <p:blipFill>
          <a:blip r:embed="rId1"/>
          <a:stretch/>
        </p:blipFill>
        <p:spPr>
          <a:xfrm>
            <a:off x="6840360" y="4054320"/>
            <a:ext cx="18288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13:28:42Z</dcterms:modified>
  <cp:revision>37</cp:revision>
  <dc:subject/>
  <dc:title>PowerPoint Presentation</dc:title>
</cp:coreProperties>
</file>