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944B9D-E967-45CE-928C-46725537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3FE8FE-F81C-4009-95F7-545464E9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85CF21-12DB-4199-B867-F9EC4C64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6E5AFF-B625-43DA-A8F2-B37B0538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A1D582-DAC2-43FA-9030-4196D7E0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B89B30-C4EA-4F67-B557-8890C5CE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A6331D-1504-4636-9AAD-5485037E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000A27-4BE9-4886-8A5D-6B965774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D29548-241F-4140-87F6-455DC24A2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BBC33D-88EA-4CEC-B796-59E80C54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3952CC-44F4-4A51-A6FA-D59DB7C5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DB85C1-F632-4605-BB55-ACC4C311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E60E8B-8999-48B9-A1B7-B172EA80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8BCE19-1952-4EC4-96B5-E4E096DC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D991BC-2404-403F-A013-73130FF4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22F0F0-8438-4726-B736-BC7AD165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B67A7F-17E9-4C2C-BF30-C91766D2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55E2C9-3659-4C97-9623-1EEF5D55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5580FF-9B4B-4AF1-94FE-331B6231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73F041-A321-457D-BDFE-881507BC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E4B909-8449-4F35-96E8-7D4E7E3E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A926FB-E17A-47C1-8658-4B8607D09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22C297-E84D-4FCD-9B23-DEBB4F0B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8EAEC3-D7DA-4DE2-A317-53CEA3A4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E37817-FEFD-428D-92C6-F8815119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288893-CE45-4A11-9F4A-5D200BB0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F32C1F-18CD-4241-8497-7F1D7ABB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DB00F6-8B19-40DE-A227-083097F7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435387-79C0-4A13-871A-72376421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186D2D-58BE-44F6-86DA-34C7F148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9662C0-08BF-4E55-B16B-367F1E64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D7A543-B562-4B9E-B44B-97FD1E97E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F2376A-E828-47CE-892C-EB4ADAD5A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3A020D-1D2E-49E5-8D60-948308F26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D9A200-1EDC-43EB-898D-F26829EC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D5609F-5020-4B53-93E8-4F5E8352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685F92-CBBA-4A84-BCC7-BF8A3EE6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9C8FC7-9CA4-4525-8CB7-B030ACD1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771218-54FE-40A3-B7DB-B8002637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558220-89A4-4442-80BD-251C6CF3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63A581-E99A-48F0-BB09-B8F95B5D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B33CFA-DE63-4BA2-A33D-698CCCA7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073D24-58B3-49C8-B5FB-FEE964CF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A0DA0F-959C-43BF-BBA7-C7113BF7B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3FC23E-62F5-4778-885C-4F4A41387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F5398-6BC3-4C01-B08C-D902D3B52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DE29F-B066-4D9B-9A5E-6DC5A36D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A3CEB-4343-4CF7-A806-ACAB52F9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BC059-6C27-41C7-91CB-A0093B77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97B2E-881B-4C45-8CB0-C0181822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7BE4D-9FFD-489A-85F5-49C4B283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5E1F1-938B-4DF3-9FF5-E6F29361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00277-1E97-469D-94DD-60170FD4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E64E8-3543-4586-B718-8E086D21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FA703-913E-4F33-A96A-786804D5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7562B-50FC-4A03-8051-155033E0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52ECE-FC7C-4626-A330-C91DD13D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F612E-E51B-4F8B-A283-D25DD9A85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F05B54-77CA-413A-8129-E1D63340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05229D-CD20-4DE6-8F0E-48908FD8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048A1B-F96D-4BD0-AFFD-B22306C0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140DF7-3C0E-4E29-99C6-97F42520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9F26FD-6816-4384-9C17-015D4AB0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4A541D-05C9-4C37-BA06-BCA1041F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5258A6-BB7D-4262-8F81-4A82068F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D8BFEB-58AC-4C2C-A482-7327C318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154A23-E02C-4257-9FC0-5391035F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5AEE9A-3FEE-48AF-9B4C-C02A10A6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849900-20A9-4CA7-8FEA-2885570B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75BBC2-90C5-402E-9E64-8BA5C1E3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785422-A06A-4CB5-817C-0C653CC6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42F230-5AAA-4C27-BBA3-8B4E13EC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52931F-81A1-46E3-8698-3647EDA1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B4020E-EC9E-4E36-88A0-8BA349BE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021E9D-7117-49C9-A8C0-917F6C32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424FB7-10CD-45CA-B18C-1795604F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C65D9C-0575-431B-8E6B-57981C89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1EE100-2A34-421E-9FE6-1912D56D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8CD989-6685-48EA-BBB9-D2FA5771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23F4DC-27A0-45B4-B71E-D0A0D768B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B59DD2-A17E-447D-BAF9-76802874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C9BCF8-6BDC-4036-B523-F710DBED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D01FF7-9740-4E94-9C63-2451890E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3BDC97-3113-4B91-BDB8-31EB1A16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044146-0583-4E32-B380-37D22262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6B672E-7C0F-43E6-BD71-9D2F1203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19D41C-3F66-4CE8-9280-AFE206EC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374116-C387-49E5-A2DD-C1E8F03F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8112DC-3708-42BF-A284-CB24003E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56FCCF-8470-47B1-A0CF-4655035F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59BAC5-F55C-4040-A267-12FDB28E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37E93B-AF35-489A-A457-34B728E14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4746A7-0565-48F2-A196-04CC5E5B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5B1B83-E520-4680-9574-0FAAEF593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8C2748-60E5-4D1F-850F-EB7E97BC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2340A5-8ABC-47FF-9CB2-81C212C1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B0BE72-9268-48CD-886E-CB7056C7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53E109-6E5A-4186-B641-82D14663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2C37E8-3440-466E-A253-B5FFC8B1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1C59EE-79B0-4ED4-B76C-2EBE8254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371D59-1B77-4AEA-A24D-BBC8845A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20A5AD-C48C-45D8-BE1A-4E04A696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0DD426-38BE-46B8-AF1E-AA659342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999C86-E339-4F26-A724-EB4237E7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0902E4-25B9-49E4-ABF7-23A1533D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8E304E-E0C0-4FB3-A46C-C87D4155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96ADC8-6F38-4132-AFAB-3B96F342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8D5828-31B5-4561-9EA6-972157A5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DC2162-1B64-47A9-91E4-F66D0594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413233-5F47-4C28-957A-5BC4643B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E10AF7-1EA9-4D63-A50F-4247F6A0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CF204D-6B7B-44A3-BA73-C4B9C65C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0251A1-0CD6-4AD1-8339-DD1F880C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2CCC40-D015-43CC-941F-2A9E1C3C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638A6F-2C9C-4B82-B3DE-9A3A33A4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CDB2AF-35E9-480B-82A7-715BFBC2F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648081-65A6-490C-932F-282448BB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AA785C-FC31-48D3-8BD3-E6D8B568D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BF6ACE-9986-45B7-ACBD-468AF828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5E9850-3079-42B9-9E62-6B7CF737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6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7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10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1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3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64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65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467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68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0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471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72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3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74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B719-C160-4E36-8181-84C16BD53701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5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2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DA4B-A8FF-44DC-8D3E-DA922FD6BB77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6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17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519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20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523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24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5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26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2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B28E-17EC-48D5-8DDA-6AD3760DFC50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28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2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27FE-1033-44EC-813D-4298E934A813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68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69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571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72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575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76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7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78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3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654E-687C-4656-956B-05733891CF51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31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3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06F4-C9DB-43EE-9FD2-2C5FA37C3DFC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1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53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4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57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58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60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2"/>
          </p:nvPr>
        </p:nvSpPr>
        <p:spPr>
          <a:xfrm>
            <a:off x="2481120" y="6152760"/>
            <a:ext cx="418176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0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01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103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04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107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08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10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58C4-90B4-4DF4-AA06-6F51DB1034EB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4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5D27-EDD5-43CA-8155-F8A516AD2F03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52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53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155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56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159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60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1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162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B68D-9074-436C-93FB-DCF59F03CA42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7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CC5D-C8E8-4DE9-BA19-19114AFEE475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04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05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207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08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211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12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3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14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D214-8940-4D97-A865-DE098605E4CF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0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F93A-0493-4A28-9954-507256933AF7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6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57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259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60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263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64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5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266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308B-C19A-4734-8420-5850845590A6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3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8193-8DE4-4A6E-8319-5944B43B7459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08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09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311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12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315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16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7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18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1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D085-BFC2-4AAE-98C9-70350FF39AE4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16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1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8EAD-5965-4806-AD1A-C9B7E8B182D1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60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61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363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64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367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68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9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370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CD09-36C9-4C36-AB56-D67B01ED1145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9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20D2-ABD3-4DAD-A269-D388F24ADAA7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2" name="AutoShape 8"/>
          <p:cNvCxnSpPr/>
          <p:nvPr/>
        </p:nvCxnSpPr>
        <p:spPr>
          <a:xfrm>
            <a:off x="0" y="996480"/>
            <a:ext cx="7254000" cy="356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13" name="Oval 9"/>
          <p:cNvSpPr/>
          <p:nvPr/>
        </p:nvSpPr>
        <p:spPr>
          <a:xfrm>
            <a:off x="7253280" y="100008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Graphic 1" descr=""/>
          <p:cNvPicPr/>
          <p:nvPr/>
        </p:nvPicPr>
        <p:blipFill>
          <a:blip r:embed="rId2"/>
          <a:srcRect l="0" t="0" r="-264" b="-2953"/>
          <a:stretch/>
        </p:blipFill>
        <p:spPr>
          <a:xfrm>
            <a:off x="7496280" y="363600"/>
            <a:ext cx="846000" cy="861840"/>
          </a:xfrm>
          <a:prstGeom prst="rect">
            <a:avLst/>
          </a:prstGeom>
          <a:ln w="0">
            <a:noFill/>
          </a:ln>
        </p:spPr>
      </p:pic>
      <p:cxnSp>
        <p:nvCxnSpPr>
          <p:cNvPr id="415" name="AutoShape 8"/>
          <p:cNvCxnSpPr/>
          <p:nvPr/>
        </p:nvCxnSpPr>
        <p:spPr>
          <a:xfrm>
            <a:off x="8496000" y="1025280"/>
            <a:ext cx="648360" cy="684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16" name="Oval 9"/>
          <p:cNvSpPr/>
          <p:nvPr/>
        </p:nvSpPr>
        <p:spPr>
          <a:xfrm>
            <a:off x="8458200" y="996840"/>
            <a:ext cx="63360" cy="63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28"/>
          <p:cNvSpPr/>
          <p:nvPr/>
        </p:nvSpPr>
        <p:spPr>
          <a:xfrm>
            <a:off x="1338120" y="326880"/>
            <a:ext cx="454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РЕПУБЛИКА БЪЛГАР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Calibri"/>
                <a:ea typeface="Μοντέρνα"/>
              </a:rPr>
              <a:t>НАЦИОНАЛЕН СТАТИСТИЧЕСКИ ИНСТИТ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Picture 12" descr=""/>
          <p:cNvPicPr/>
          <p:nvPr/>
        </p:nvPicPr>
        <p:blipFill>
          <a:blip r:embed="rId3"/>
          <a:srcRect l="0" t="0" r="80421" b="0"/>
          <a:stretch/>
        </p:blipFill>
        <p:spPr>
          <a:xfrm>
            <a:off x="-79200" y="358920"/>
            <a:ext cx="1479240" cy="804600"/>
          </a:xfrm>
          <a:prstGeom prst="rect">
            <a:avLst/>
          </a:prstGeom>
          <a:ln w="0">
            <a:noFill/>
          </a:ln>
        </p:spPr>
      </p:pic>
      <p:cxnSp>
        <p:nvCxnSpPr>
          <p:cNvPr id="419" name="AutoShape 8"/>
          <p:cNvCxnSpPr/>
          <p:nvPr/>
        </p:nvCxnSpPr>
        <p:spPr>
          <a:xfrm>
            <a:off x="0" y="617976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20" name="Oval 9"/>
          <p:cNvSpPr/>
          <p:nvPr/>
        </p:nvSpPr>
        <p:spPr>
          <a:xfrm>
            <a:off x="2270160" y="614844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21" name="AutoShape 8"/>
          <p:cNvCxnSpPr/>
          <p:nvPr/>
        </p:nvCxnSpPr>
        <p:spPr>
          <a:xfrm>
            <a:off x="6873840" y="6181200"/>
            <a:ext cx="227052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</a:ln>
        </p:spPr>
      </p:cxnSp>
      <p:sp>
        <p:nvSpPr>
          <p:cNvPr id="422" name="Oval 9"/>
          <p:cNvSpPr/>
          <p:nvPr/>
        </p:nvSpPr>
        <p:spPr>
          <a:xfrm>
            <a:off x="6815160" y="6153120"/>
            <a:ext cx="63360" cy="6336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D093-8BCF-4F09-8BFF-B17F1F37D973}" type="datetime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2"/>
          </p:nvPr>
        </p:nvSpPr>
        <p:spPr>
          <a:xfrm>
            <a:off x="2378160" y="5893920"/>
            <a:ext cx="42019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0094-A995-4F92-B0FD-2078BCFCB0AC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oster_competition@nsi.bg" TargetMode="Externa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nsi.bg/islp2025/islp.htm" TargetMode="External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1425600"/>
            <a:ext cx="7531200" cy="217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b1ac"/>
                </a:solidFill>
                <a:latin typeface="Calibri"/>
                <a:ea typeface="Meiryo UI"/>
              </a:rPr>
              <a:t>МЕЖДУНАРОДЕН КОНКУРС </a:t>
            </a:r>
            <a:br>
              <a:rPr sz="3600"/>
            </a:br>
            <a:r>
              <a:rPr b="1" lang="bg-BG" sz="3600" spc="-1" strike="noStrike">
                <a:solidFill>
                  <a:srgbClr val="00b1ac"/>
                </a:solidFill>
                <a:latin typeface="Calibri"/>
                <a:ea typeface="Meiryo UI"/>
              </a:rPr>
              <a:t>ЗА СТАТИСТИЧЕСКИ</a:t>
            </a:r>
            <a:br>
              <a:rPr sz="3600"/>
            </a:br>
            <a:r>
              <a:rPr b="1" lang="bg-BG" sz="3600" spc="-1" strike="noStrike">
                <a:solidFill>
                  <a:srgbClr val="00b1ac"/>
                </a:solidFill>
                <a:latin typeface="Calibri"/>
                <a:ea typeface="Meiryo UI"/>
              </a:rPr>
              <a:t>ПЛАКАТ </a:t>
            </a:r>
            <a:r>
              <a:rPr b="1" lang="bg-BG" sz="3600" spc="-1" strike="noStrike">
                <a:solidFill>
                  <a:srgbClr val="00aca8"/>
                </a:solidFill>
                <a:latin typeface="Calibri"/>
                <a:ea typeface="Meiryo UI"/>
              </a:rPr>
              <a:t>2024 - 2025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99680" y="3602160"/>
            <a:ext cx="321012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b1ac"/>
                </a:solidFill>
                <a:latin typeface="Calibri"/>
              </a:rPr>
              <a:t>Наташа Марин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b1ac"/>
                </a:solidFill>
                <a:latin typeface="Calibri"/>
              </a:rPr>
              <a:t>Национален статистически институ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poster_competition@nsi.bg</a:t>
            </a:r>
            <a:r>
              <a:rPr b="0" lang="en-US" sz="2000" spc="-1" strike="noStrike">
                <a:solidFill>
                  <a:srgbClr val="00b1ac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1ac"/>
                </a:solidFill>
                <a:latin typeface="Calibri"/>
              </a:rPr>
              <a:t>1</a:t>
            </a:r>
            <a:r>
              <a:rPr b="0" lang="bg-BG" sz="2000" spc="-1" strike="noStrike">
                <a:solidFill>
                  <a:srgbClr val="00b1ac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b1ac"/>
                </a:solidFill>
                <a:latin typeface="Calibri"/>
              </a:rPr>
              <a:t> </a:t>
            </a:r>
            <a:r>
              <a:rPr b="0" lang="bg-BG" sz="2000" spc="-1" strike="noStrike">
                <a:solidFill>
                  <a:srgbClr val="00b1ac"/>
                </a:solidFill>
                <a:latin typeface="Calibri"/>
              </a:rPr>
              <a:t>-</a:t>
            </a:r>
            <a:r>
              <a:rPr b="0" lang="en-US" sz="2000" spc="-1" strike="noStrike">
                <a:solidFill>
                  <a:srgbClr val="00b1ac"/>
                </a:solidFill>
                <a:latin typeface="Calibri"/>
              </a:rPr>
              <a:t> 1</a:t>
            </a:r>
            <a:r>
              <a:rPr b="0" lang="bg-BG" sz="2000" spc="-1" strike="noStrike">
                <a:solidFill>
                  <a:srgbClr val="00b1ac"/>
                </a:solidFill>
                <a:latin typeface="Calibri"/>
              </a:rPr>
              <a:t>4</a:t>
            </a:r>
            <a:r>
              <a:rPr b="0" lang="en-US" sz="2000" spc="-1" strike="noStrike">
                <a:solidFill>
                  <a:srgbClr val="00b1ac"/>
                </a:solidFill>
                <a:latin typeface="Calibri"/>
              </a:rPr>
              <a:t> </a:t>
            </a:r>
            <a:r>
              <a:rPr b="0" lang="bg-BG" sz="2000" spc="-1" strike="noStrike">
                <a:solidFill>
                  <a:srgbClr val="00b1ac"/>
                </a:solidFill>
                <a:latin typeface="Calibri"/>
              </a:rPr>
              <a:t>декември 2024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b1ac"/>
                </a:solidFill>
                <a:latin typeface="Calibri"/>
              </a:rPr>
              <a:t>Хисар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Footer Placeholder 3"/>
          <p:cNvSpPr/>
          <p:nvPr/>
        </p:nvSpPr>
        <p:spPr>
          <a:xfrm>
            <a:off x="2481120" y="5805360"/>
            <a:ext cx="4181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3" name="Picture 6" descr=""/>
          <p:cNvPicPr/>
          <p:nvPr/>
        </p:nvPicPr>
        <p:blipFill>
          <a:blip r:embed="rId2"/>
          <a:stretch/>
        </p:blipFill>
        <p:spPr>
          <a:xfrm>
            <a:off x="7045200" y="4578480"/>
            <a:ext cx="16606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Footer Placeholder 1"/>
          <p:cNvSpPr/>
          <p:nvPr/>
        </p:nvSpPr>
        <p:spPr>
          <a:xfrm>
            <a:off x="2378160" y="5894280"/>
            <a:ext cx="4201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2"/>
          <p:cNvSpPr/>
          <p:nvPr/>
        </p:nvSpPr>
        <p:spPr>
          <a:xfrm>
            <a:off x="534960" y="2798640"/>
            <a:ext cx="78930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b1ac"/>
                </a:solidFill>
                <a:latin typeface="Meiryo UI"/>
                <a:ea typeface="Meiryo UI"/>
              </a:rPr>
              <a:t>Допълнителна информация може да намерите на сайта на състезанието: </a:t>
            </a:r>
            <a:r>
              <a:rPr b="0" lang="bg-BG" sz="2000" spc="-1" strike="noStrike" u="sng">
                <a:solidFill>
                  <a:srgbClr val="0563c1"/>
                </a:solidFill>
                <a:uFillTx/>
                <a:latin typeface="Meiryo UI"/>
                <a:ea typeface="Meiryo UI"/>
                <a:hlinkClick r:id="rId1"/>
              </a:rPr>
              <a:t>https://www.nsi.bg/islp2025/islp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318680" y="2070000"/>
            <a:ext cx="654876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b1ac"/>
                </a:solidFill>
                <a:latin typeface="Calibri"/>
                <a:ea typeface="Meiryo UI"/>
              </a:rPr>
              <a:t>МЕЖДУНАРОДЕН КОНКУРС ЗА СТАТИСТИЧЕСКИ</a:t>
            </a:r>
            <a:br>
              <a:rPr sz="1800"/>
            </a:br>
            <a:r>
              <a:rPr b="1" lang="bg-BG" sz="1800" spc="-1" strike="noStrike">
                <a:solidFill>
                  <a:srgbClr val="00b1ac"/>
                </a:solidFill>
                <a:latin typeface="Calibri"/>
                <a:ea typeface="Meiryo UI"/>
              </a:rPr>
              <a:t>ПЛАКАТ </a:t>
            </a:r>
            <a:r>
              <a:rPr b="1" lang="bg-BG" sz="1800" spc="-1" strike="noStrike">
                <a:solidFill>
                  <a:srgbClr val="00c8c3"/>
                </a:solidFill>
                <a:latin typeface="Calibri"/>
                <a:ea typeface="Meiryo UI"/>
              </a:rPr>
              <a:t>2024 - 2025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344160" y="1991880"/>
            <a:ext cx="8488440" cy="496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00b1ac"/>
                </a:solidFill>
                <a:latin typeface="Meiryo UI"/>
              </a:rPr>
              <a:t>Цели на конкурса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b1ac"/>
                </a:solidFill>
                <a:latin typeface="Meiryo UI"/>
              </a:rPr>
              <a:t>Да се подобрят способностите на учениците да описват средата, в която живеят, с помощта на статистиката и да използват статистическите данни ежедневно като инструмент за изучаване на живота</a:t>
            </a:r>
            <a:r>
              <a:rPr b="0" lang="ru-RU" sz="1700" spc="-1" strike="noStrike">
                <a:solidFill>
                  <a:srgbClr val="00b1ac"/>
                </a:solidFill>
                <a:latin typeface="Meiryo U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900" spc="-1" strike="noStrike">
                <a:solidFill>
                  <a:srgbClr val="00b1ac"/>
                </a:solidFill>
                <a:latin typeface="Meiryo UI"/>
              </a:rPr>
              <a:t>Защо плакат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b1ac"/>
                </a:solidFill>
                <a:latin typeface="Meiryo UI"/>
              </a:rPr>
              <a:t>Участието в конкурса за плакати ще насърчи учениците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b1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b1ac"/>
                </a:solidFill>
                <a:latin typeface="Meiryo UI"/>
              </a:rPr>
              <a:t>да работят в екип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b1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b1ac"/>
                </a:solidFill>
                <a:latin typeface="Meiryo UI"/>
              </a:rPr>
              <a:t>да изследват реални въпроси, които ги вълнуват, като използват статистически данн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b1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b1ac"/>
                </a:solidFill>
                <a:latin typeface="Meiryo UI"/>
              </a:rPr>
              <a:t>да използват своите математически и графически умени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b1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b1ac"/>
                </a:solidFill>
                <a:latin typeface="Meiryo UI"/>
              </a:rPr>
              <a:t>да интерпретират статистически резултат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b1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b1ac"/>
                </a:solidFill>
                <a:latin typeface="Meiryo UI"/>
              </a:rPr>
              <a:t>да развиват писмени комуникационни </a:t>
            </a:r>
            <a:r>
              <a:rPr b="0" lang="ru-RU" sz="1700" spc="-1" strike="noStrike">
                <a:solidFill>
                  <a:srgbClr val="00b1ac"/>
                </a:solidFill>
                <a:latin typeface="Meiryo UI"/>
              </a:rPr>
              <a:t>умения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Footer Placeholder 3"/>
          <p:cNvSpPr/>
          <p:nvPr/>
        </p:nvSpPr>
        <p:spPr>
          <a:xfrm>
            <a:off x="2481120" y="6153120"/>
            <a:ext cx="4181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4" descr=""/>
          <p:cNvPicPr/>
          <p:nvPr/>
        </p:nvPicPr>
        <p:blipFill>
          <a:blip r:embed="rId1"/>
          <a:stretch/>
        </p:blipFill>
        <p:spPr>
          <a:xfrm>
            <a:off x="7296120" y="1351080"/>
            <a:ext cx="16606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28560" y="1248840"/>
            <a:ext cx="7886880" cy="9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bg-BG" sz="2400" spc="-1" strike="noStrike">
                <a:solidFill>
                  <a:srgbClr val="00b1ac"/>
                </a:solidFill>
                <a:latin typeface="Calibri"/>
                <a:ea typeface="Meiryo UI"/>
              </a:rPr>
              <a:t>МЕЖДУНАРОДЕН КОНКУРС ЗА СТАТИСТИЧЕСКИ ПЛАКАТ 2024 - 2025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28560" y="2166480"/>
            <a:ext cx="788688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1ac"/>
                </a:solidFill>
                <a:latin typeface="Calibri"/>
              </a:rPr>
              <a:t>Четири категори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1ac"/>
                </a:solidFill>
                <a:latin typeface="Calibri"/>
              </a:rPr>
              <a:t>1. Ученици, родени между 2013 г. и 2015 г. вкл. (на възраст 9 - 11 г.) - НОВО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1ac"/>
                </a:solidFill>
                <a:latin typeface="Calibri"/>
              </a:rPr>
              <a:t>2. Ученици, родени между 2009 г. и 2012 г. вкл. (на възраст 12 - 15 г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1ac"/>
                </a:solidFill>
                <a:latin typeface="Calibri"/>
              </a:rPr>
              <a:t>3. Ученици, родени между 2006 г. и 2008 г. вкл. (на възраст 16 - 18 г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1ac"/>
                </a:solidFill>
                <a:latin typeface="Calibri"/>
              </a:rPr>
              <a:t>4. Студенти, преди да завършат бакалавърска степен в университет/колеж (в процес на обучение, не се допускат дипломни работи за бакалавърска или магистърска степен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b1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Footer Placeholder 3"/>
          <p:cNvSpPr/>
          <p:nvPr/>
        </p:nvSpPr>
        <p:spPr>
          <a:xfrm>
            <a:off x="2471760" y="5715000"/>
            <a:ext cx="4200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1" name="Picture 4" descr=""/>
          <p:cNvPicPr/>
          <p:nvPr/>
        </p:nvPicPr>
        <p:blipFill>
          <a:blip r:embed="rId1"/>
          <a:stretch/>
        </p:blipFill>
        <p:spPr>
          <a:xfrm>
            <a:off x="6856560" y="5087880"/>
            <a:ext cx="16588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1"/>
          <p:cNvSpPr/>
          <p:nvPr/>
        </p:nvSpPr>
        <p:spPr>
          <a:xfrm>
            <a:off x="2378160" y="5894280"/>
            <a:ext cx="4201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Rectangle 2"/>
          <p:cNvSpPr/>
          <p:nvPr/>
        </p:nvSpPr>
        <p:spPr>
          <a:xfrm>
            <a:off x="587520" y="1146240"/>
            <a:ext cx="726264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b1ac"/>
                </a:solidFill>
                <a:latin typeface="Meiryo UI"/>
                <a:ea typeface="Meiryo UI"/>
              </a:rPr>
              <a:t>Национален кръ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b1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b1ac"/>
                </a:solidFill>
                <a:latin typeface="Meiryo UI"/>
                <a:ea typeface="Meiryo UI"/>
              </a:rPr>
              <a:t>Регистрация – до 3 януари 2025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b1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b1ac"/>
                </a:solidFill>
                <a:latin typeface="Meiryo UI"/>
                <a:ea typeface="Meiryo UI"/>
              </a:rPr>
              <a:t>Зададена тема - </a:t>
            </a:r>
            <a:r>
              <a:rPr b="0" lang="ru-RU" sz="1800" spc="-1" strike="noStrike">
                <a:solidFill>
                  <a:srgbClr val="00b1ac"/>
                </a:solidFill>
                <a:latin typeface="Meiryo UI"/>
                <a:ea typeface="Meiryo UI"/>
              </a:rPr>
              <a:t>Няма ограничение за темата на плака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b1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b1ac"/>
                </a:solidFill>
                <a:latin typeface="Meiryo UI"/>
                <a:ea typeface="Meiryo UI"/>
              </a:rPr>
              <a:t>Предаване на плакатите - </a:t>
            </a:r>
            <a:r>
              <a:rPr b="0" lang="ru-RU" sz="1800" spc="-1" strike="noStrike">
                <a:solidFill>
                  <a:srgbClr val="00b1ac"/>
                </a:solidFill>
                <a:latin typeface="Meiryo UI"/>
                <a:ea typeface="Meiryo UI"/>
              </a:rPr>
              <a:t>до 4 март 2025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b1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1ac"/>
                </a:solidFill>
                <a:latin typeface="Meiryo UI"/>
                <a:ea typeface="Meiryo UI"/>
              </a:rPr>
              <a:t>Оценяване на участвалите плакати: от 5 март до 31 март 2025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b1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1ac"/>
                </a:solidFill>
                <a:latin typeface="Meiryo UI"/>
                <a:ea typeface="Meiryo UI"/>
              </a:rPr>
              <a:t>Обявяване на националните победители: 7 април 2025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3"/>
          <p:cNvSpPr/>
          <p:nvPr/>
        </p:nvSpPr>
        <p:spPr>
          <a:xfrm>
            <a:off x="2378160" y="3835440"/>
            <a:ext cx="63086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b1ac"/>
                </a:solidFill>
                <a:latin typeface="Meiryo UI"/>
                <a:ea typeface="Meiryo UI"/>
              </a:rPr>
              <a:t>Международен кръ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b1ac"/>
                </a:solidFill>
                <a:latin typeface="Meiryo UI"/>
                <a:ea typeface="Meiryo UI"/>
              </a:rPr>
              <a:t>Оценяване на първенците от всички стра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b1ac"/>
                </a:solidFill>
                <a:latin typeface="Meiryo UI"/>
                <a:ea typeface="Meiryo UI"/>
              </a:rPr>
              <a:t>Награждаване на победителите в трите категории на </a:t>
            </a:r>
            <a:r>
              <a:rPr b="0" lang="ru-RU" sz="1800" spc="-1" strike="noStrike">
                <a:solidFill>
                  <a:srgbClr val="00b1ac"/>
                </a:solidFill>
                <a:latin typeface="Meiryo UI"/>
                <a:ea typeface="Meiryo UI"/>
              </a:rPr>
              <a:t>65-ия Световен статистически конгрес на Международния статистически институт (ISI) в Хага, Нидерландия, от 13 до 17 юли 2025 годи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Picture 4" descr=""/>
          <p:cNvPicPr/>
          <p:nvPr/>
        </p:nvPicPr>
        <p:blipFill>
          <a:blip r:embed="rId1"/>
          <a:stretch/>
        </p:blipFill>
        <p:spPr>
          <a:xfrm>
            <a:off x="587520" y="4621320"/>
            <a:ext cx="16588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ooter Placeholder 1"/>
          <p:cNvSpPr/>
          <p:nvPr/>
        </p:nvSpPr>
        <p:spPr>
          <a:xfrm>
            <a:off x="2378160" y="5894280"/>
            <a:ext cx="4201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344520" y="-343080"/>
            <a:ext cx="7074000" cy="68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b1ac"/>
                </a:solidFill>
                <a:latin typeface="Meiryo UI"/>
                <a:ea typeface="Meiryo UI"/>
              </a:rPr>
              <a:t>Списък на дейностите, които трябва да се осъществя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b1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b1ac"/>
                </a:solidFill>
                <a:latin typeface="Meiryo UI"/>
                <a:ea typeface="Meiryo UI"/>
              </a:rPr>
              <a:t>Регистриране на отборите във формата за регистрация на сайта на конкурс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b1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b1ac"/>
                </a:solidFill>
                <a:latin typeface="Meiryo UI"/>
                <a:ea typeface="Meiryo UI"/>
              </a:rPr>
              <a:t>Запознаване на участниците с насоките за изготвяне на статистически плака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b1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b1ac"/>
                </a:solidFill>
                <a:latin typeface="Meiryo UI"/>
                <a:ea typeface="Meiryo UI"/>
              </a:rPr>
              <a:t>Осигуряване на възможност на участниците да работят по създаването на плакати в училище и/или като домашна рабо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b1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b1ac"/>
                </a:solidFill>
                <a:latin typeface="Meiryo UI"/>
                <a:ea typeface="Meiryo UI"/>
              </a:rPr>
              <a:t>Изпращане на плаката/ите (само един плакат за всяка категория) на координатора за България на имейл poster_competition@nsi.bg или по традиционна поща в НСИ на адрес: ул. „Панайот Волов“ №2, гр. София, ПК 103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b1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b1ac"/>
                </a:solidFill>
                <a:latin typeface="Meiryo UI"/>
                <a:ea typeface="Meiryo UI"/>
              </a:rPr>
              <a:t>Подготвяне на отделно приложение с информация за участниците (изпраща се заедно с плаката!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b1a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b1ac"/>
                </a:solidFill>
                <a:latin typeface="Meiryo UI"/>
                <a:ea typeface="Meiryo UI"/>
              </a:rPr>
              <a:t>Плакатът е АНОНИМЕН - на него не трябва да присъстват имената на участниците или учебната институция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8" name="Picture 3" descr=""/>
          <p:cNvPicPr/>
          <p:nvPr/>
        </p:nvPicPr>
        <p:blipFill>
          <a:blip r:embed="rId1"/>
          <a:stretch/>
        </p:blipFill>
        <p:spPr>
          <a:xfrm>
            <a:off x="7418520" y="1332000"/>
            <a:ext cx="1484280" cy="11221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4" descr=""/>
          <p:cNvPicPr/>
          <p:nvPr/>
        </p:nvPicPr>
        <p:blipFill>
          <a:blip r:embed="rId2"/>
          <a:stretch/>
        </p:blipFill>
        <p:spPr>
          <a:xfrm>
            <a:off x="7243920" y="4662360"/>
            <a:ext cx="165888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ooter Placeholder 1"/>
          <p:cNvSpPr/>
          <p:nvPr/>
        </p:nvSpPr>
        <p:spPr>
          <a:xfrm>
            <a:off x="2378160" y="5894280"/>
            <a:ext cx="4201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Rectangle 2"/>
          <p:cNvSpPr/>
          <p:nvPr/>
        </p:nvSpPr>
        <p:spPr>
          <a:xfrm>
            <a:off x="2378160" y="1346040"/>
            <a:ext cx="5600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b1ac"/>
                </a:solidFill>
                <a:latin typeface="Calibri"/>
              </a:rPr>
              <a:t>                 </a:t>
            </a:r>
            <a:r>
              <a:rPr b="1" lang="bg-BG" sz="3600" spc="-1" strike="noStrike">
                <a:solidFill>
                  <a:srgbClr val="00b1ac"/>
                </a:solidFill>
                <a:latin typeface="Calibri Light"/>
                <a:ea typeface="Calibri Light"/>
              </a:rPr>
              <a:t>Анализ на резултатит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b1ac"/>
                </a:solidFill>
                <a:latin typeface="Calibri Light"/>
                <a:ea typeface="Calibri Light"/>
              </a:rPr>
              <a:t>	</a:t>
            </a:r>
            <a:r>
              <a:rPr b="1" lang="bg-BG" sz="3600" spc="-1" strike="noStrike">
                <a:solidFill>
                  <a:srgbClr val="00b1ac"/>
                </a:solidFill>
                <a:latin typeface="Calibri Light"/>
                <a:ea typeface="Calibri Light"/>
              </a:rPr>
              <a:t>	</a:t>
            </a:r>
            <a:r>
              <a:rPr b="1" lang="bg-BG" sz="3600" spc="-1" strike="noStrike">
                <a:solidFill>
                  <a:srgbClr val="00b1ac"/>
                </a:solidFill>
                <a:latin typeface="Calibri Light"/>
                <a:ea typeface="Calibri Light"/>
              </a:rPr>
              <a:t>2022 - 202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Rectangle 3"/>
          <p:cNvSpPr/>
          <p:nvPr/>
        </p:nvSpPr>
        <p:spPr>
          <a:xfrm flipV="1" rot="10800000">
            <a:off x="1966680" y="3081960"/>
            <a:ext cx="5607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b1ac"/>
                </a:solidFill>
                <a:latin typeface="Calibri Light"/>
                <a:ea typeface="Calibri Light"/>
              </a:rPr>
              <a:t>Общо регистрирани отбори - 16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b1ac"/>
                </a:solidFill>
                <a:latin typeface="Calibri Light"/>
                <a:ea typeface="Calibri Light"/>
              </a:rPr>
              <a:t>Населени места - 3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b1ac"/>
                </a:solidFill>
                <a:latin typeface="Calibri Light"/>
                <a:ea typeface="Calibri Light"/>
              </a:rPr>
              <a:t>Общ брой ученици - 52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3" name="Picture 4" descr=""/>
          <p:cNvPicPr/>
          <p:nvPr/>
        </p:nvPicPr>
        <p:blipFill>
          <a:blip r:embed="rId1"/>
          <a:stretch/>
        </p:blipFill>
        <p:spPr>
          <a:xfrm>
            <a:off x="687240" y="1155600"/>
            <a:ext cx="1279800" cy="1100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Footer Placeholder 1"/>
          <p:cNvSpPr/>
          <p:nvPr/>
        </p:nvSpPr>
        <p:spPr>
          <a:xfrm>
            <a:off x="2378160" y="5894280"/>
            <a:ext cx="4201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Rectangle 2"/>
          <p:cNvSpPr/>
          <p:nvPr/>
        </p:nvSpPr>
        <p:spPr>
          <a:xfrm>
            <a:off x="1297080" y="3230640"/>
            <a:ext cx="674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b1ac"/>
                </a:solidFill>
                <a:latin typeface="Calibri"/>
                <a:ea typeface="Meiryo UI"/>
              </a:rPr>
              <a:t>Най-активни бяха учениците от</a:t>
            </a:r>
            <a:r>
              <a:rPr b="1" lang="ru-RU" sz="2000" spc="-1" strike="noStrike">
                <a:solidFill>
                  <a:srgbClr val="00b1ac"/>
                </a:solidFill>
                <a:latin typeface="Calibri"/>
                <a:ea typeface="Meiryo UI"/>
              </a:rPr>
              <a:t> София - 35, следвани от Варна - 24, и Добрич - 19 плак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6" name="Picture 3" descr=""/>
          <p:cNvPicPr/>
          <p:nvPr/>
        </p:nvPicPr>
        <p:blipFill>
          <a:blip r:embed="rId1"/>
          <a:stretch/>
        </p:blipFill>
        <p:spPr>
          <a:xfrm>
            <a:off x="901800" y="1398600"/>
            <a:ext cx="1279440" cy="1100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Footer Placeholder 1"/>
          <p:cNvSpPr/>
          <p:nvPr/>
        </p:nvSpPr>
        <p:spPr>
          <a:xfrm>
            <a:off x="2378160" y="5894280"/>
            <a:ext cx="4201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Rectangle 2"/>
          <p:cNvSpPr/>
          <p:nvPr/>
        </p:nvSpPr>
        <p:spPr>
          <a:xfrm>
            <a:off x="3079800" y="113832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b1ac"/>
                </a:solidFill>
                <a:latin typeface="Verdana"/>
                <a:ea typeface="Verdana"/>
              </a:rPr>
              <a:t>Победител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Rectangle 3"/>
          <p:cNvSpPr/>
          <p:nvPr/>
        </p:nvSpPr>
        <p:spPr>
          <a:xfrm>
            <a:off x="2052720" y="1424160"/>
            <a:ext cx="6538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 u="sng">
                <a:solidFill>
                  <a:srgbClr val="00b1ac"/>
                </a:solidFill>
                <a:uFillTx/>
                <a:latin typeface="Verdana"/>
                <a:ea typeface="Verdana"/>
              </a:rPr>
              <a:t>Категория 1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d9617"/>
                </a:solidFill>
                <a:latin typeface="Calibri"/>
              </a:rPr>
              <a:t>1-во място: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Отбор „БДС“, СУ „Св. Константин-Кирил Философ“, Пловдив, с плакат: „Без тормоз и насилие в училището ни“, 98.5 точ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d9617"/>
                </a:solidFill>
                <a:latin typeface="Calibri"/>
              </a:rPr>
              <a:t>2-ро място: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Отбор „PANTERS“, МГ „Д-р Петър Берон“, Варна, с плакат: „Стресът в човешкия живот“, 98 точ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ed9617"/>
                </a:solidFill>
                <a:latin typeface="Calibri"/>
              </a:rPr>
              <a:t>3-то място: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бор „ГрафКо“, СУ „Димитър Маринов“, Лом, с плакат: „BROWN BEAR“, 97 точ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Rectangle 4"/>
          <p:cNvSpPr/>
          <p:nvPr/>
        </p:nvSpPr>
        <p:spPr>
          <a:xfrm>
            <a:off x="0" y="3138480"/>
            <a:ext cx="7186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 u="sng">
                <a:solidFill>
                  <a:srgbClr val="00b1ac"/>
                </a:solidFill>
                <a:uFillTx/>
                <a:latin typeface="Verdana"/>
                <a:ea typeface="Verdana"/>
              </a:rPr>
              <a:t>Категория 2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d9617"/>
                </a:solidFill>
                <a:latin typeface="Calibri"/>
              </a:rPr>
              <a:t>1-во място: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Отбор „TELBOD“, НТГ, Пловдив, с плакат: „Полярни вести“, 97.5 точ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ed9617"/>
                </a:solidFill>
                <a:latin typeface="Calibri"/>
              </a:rPr>
              <a:t>2-ро място: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бор „PMG_ON_TOP“, ПМГ „Св. Климент Охридски“, Силистра, с плакат: „Можем ли без зависимости“, 93 точ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ed9617"/>
                </a:solidFill>
                <a:latin typeface="Calibri"/>
              </a:rPr>
              <a:t>3-то място: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бор „The heart of nation“, ПГИИ „Джон Атанасов“, Търговище, с плакат: „Нива на самоубийства в Южна Корея“, 92 точ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Rectangle 5"/>
          <p:cNvSpPr/>
          <p:nvPr/>
        </p:nvSpPr>
        <p:spPr>
          <a:xfrm flipV="1" rot="10800000">
            <a:off x="12240" y="4696920"/>
            <a:ext cx="7548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 u="sng">
                <a:solidFill>
                  <a:srgbClr val="00b1ac"/>
                </a:solidFill>
                <a:uFillTx/>
                <a:latin typeface="Verdana"/>
                <a:ea typeface="Verdana"/>
              </a:rPr>
              <a:t>Категория 3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d9617"/>
                </a:solidFill>
                <a:latin typeface="Calibri"/>
              </a:rPr>
              <a:t>1-во място: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Отбор „K\DA“, Технически университет - София, с плакат: „Мястото на жената в модерния свят“, 94 точ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ed9617"/>
                </a:solidFill>
                <a:latin typeface="Calibri"/>
              </a:rPr>
              <a:t>2-ро място: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бор „MIK Group“, Русенски университет, с плакат: „Изкуственият интелект в развитието и бъдещето на бизнеса“, 91 точ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2" name="Picture 6" descr=""/>
          <p:cNvPicPr/>
          <p:nvPr/>
        </p:nvPicPr>
        <p:blipFill>
          <a:blip r:embed="rId1"/>
          <a:stretch/>
        </p:blipFill>
        <p:spPr>
          <a:xfrm>
            <a:off x="241200" y="1258920"/>
            <a:ext cx="1611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Footer Placeholder 1"/>
          <p:cNvSpPr/>
          <p:nvPr/>
        </p:nvSpPr>
        <p:spPr>
          <a:xfrm>
            <a:off x="2378160" y="5894280"/>
            <a:ext cx="42019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София 1038, България, ул. „П. Волов“ №2, тел: 02/ 9857 111,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nsi.bg, e-mail: info@nsi.b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Rectangle 2"/>
          <p:cNvSpPr/>
          <p:nvPr/>
        </p:nvSpPr>
        <p:spPr>
          <a:xfrm>
            <a:off x="638280" y="2554200"/>
            <a:ext cx="45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b1ac"/>
                </a:solidFill>
                <a:latin typeface="Meiryo UI"/>
              </a:rPr>
              <a:t>Наград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638280" y="3386160"/>
            <a:ext cx="557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b1ac"/>
                </a:solidFill>
                <a:latin typeface="Meiryo UI"/>
                <a:ea typeface="Meiryo UI"/>
              </a:rPr>
              <a:t>Предметни (за победителит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b1ac"/>
                </a:solidFill>
                <a:latin typeface="Meiryo UI"/>
                <a:ea typeface="Meiryo UI"/>
              </a:rPr>
              <a:t>Всички участници ще получат грамо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6" name="Picture 4" descr=""/>
          <p:cNvPicPr/>
          <p:nvPr/>
        </p:nvPicPr>
        <p:blipFill>
          <a:blip r:embed="rId1"/>
          <a:stretch/>
        </p:blipFill>
        <p:spPr>
          <a:xfrm>
            <a:off x="6580080" y="1432080"/>
            <a:ext cx="2127240" cy="160812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5" descr=""/>
          <p:cNvPicPr/>
          <p:nvPr/>
        </p:nvPicPr>
        <p:blipFill>
          <a:blip r:embed="rId2"/>
          <a:stretch/>
        </p:blipFill>
        <p:spPr>
          <a:xfrm>
            <a:off x="6580080" y="4594320"/>
            <a:ext cx="190368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7T14:39:36Z</dcterms:created>
  <dc:creator>Kostadin Georgiev</dc:creator>
  <dc:description/>
  <dc:language>en-US</dc:language>
  <cp:lastModifiedBy>Natasha Petrova-Marinova</cp:lastModifiedBy>
  <dcterms:modified xsi:type="dcterms:W3CDTF">2024-12-11T09:27:47Z</dcterms:modified>
  <cp:revision>32</cp:revision>
  <dc:subject/>
  <dc:title>PowerPoint Presentation</dc:title>
</cp:coreProperties>
</file>