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AB8FDD-8CAF-4C4D-A4D7-95C29546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08F80B-B5E4-4000-B565-AD556615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811248-7D66-4B08-BC10-91C04929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4626E3-7941-49B7-80FC-5C286792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029AEF-EA61-4E19-B512-D4235F37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D5F01C-8D31-43DB-8E2E-CDAC236E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77B282-3EB8-4F9D-8731-A555A569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D4A94C-8A00-48A6-A549-E90DAEB2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31E421-5F63-4737-9216-3C9E2A88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3BFFF5-A949-4691-B09E-E8ADF547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7F7E30-F478-49FB-BE1F-FF6918CC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4B06AF-958B-4D23-A976-9A42AD3E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4DBBAD-A56B-4FE2-A8CE-E1018EE1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A4A54B-DD3B-4542-A86B-F826A178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AC477F-206E-4299-83B2-BF656183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7DEAE1-DFAB-4F1B-A55C-D0176070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C13E75-FD12-4459-862E-F5F38079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5460E9-9D1C-4F52-AFF3-45776524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BB8895-714D-4856-A495-C0E0D4FA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249F49-3C50-4E1B-B804-233EF7AE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78CE2A-0463-4302-9D77-DEF93810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1F8D90-FA1A-4D88-9260-64F06EA7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BCFBB4-4E64-4A44-A859-CA4B2B05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709A47-3FB1-41EF-9DEC-6A1E0974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EBF805-1A21-401A-9D12-9755F4D7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13C699-9AB8-4397-9CAA-F30D1C73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251468-FF8D-4AC4-85FA-C3E89271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19487D-10DE-4916-A47F-A7216E80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A61559-19E8-4976-8998-3A452933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C5C584-77B5-4CF7-AC78-1AF238BE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A7A846-7227-4B08-87CB-C13FAF84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885B04-9CBC-44EA-9A54-B4DB2447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494826-6513-4272-B6CD-6A0E48A1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815301-8DCF-4124-A5FD-352BEC90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F06249-8EE3-4D0B-A910-2D64C8DF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31CE4A-07A9-42BF-ABE8-62273A90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A86B7E-43EB-4AC7-B9F4-FF998942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48BA9C-93AA-4E1D-B4D1-B26BD12A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9ACEFF-C4B7-4253-B317-D838F76E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FEB6D8-F002-4174-BE4D-DD0BF375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DDE8CD-BD61-4F33-9ED4-362370EB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EA7666-2AA4-40BF-8BBD-9B36359A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2C8BA8-CC8A-405D-92C2-F94B34CC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08569F-2D6D-4F51-841F-36F2DD36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593C17-6BE5-4EF1-A3B7-3511B972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03C5E-3E5A-49A7-9BFE-804C3ABD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434EB-2554-4950-9929-B227D6D5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F6835-ECE8-4F25-B942-2A48B61F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BBB07-0FBA-4E39-AECF-3AC30E6B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5B4FF-EE87-4C5F-83FB-F47C4822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8B9CA-25BA-444E-8B01-1C9110C4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BEB20-3AB1-49D0-8582-A32E0221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BB2C7-358A-4BE4-9427-88994537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45274-A622-4B2A-9591-00E3E313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4D9B2-CF87-45D7-83B6-711FC9BE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9D7D0-F6D0-422B-A78E-0A14BBC1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8F49B-6D9B-453D-A161-8911CC47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4FCD7-0081-4031-8B5F-71F6B02A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F09B91-65DE-4BE4-AE0F-3248DB65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D603B-95F5-4458-B364-F2E90857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EAF5C-A6F6-45AE-9FA0-5DB702BC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D47B0-5F14-4099-9E16-6E99793A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77D69-CB62-4DEA-A602-AF5FAF58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BF5CB-4EF3-411C-8907-AE0FB4E5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98B04-C8FB-4500-9627-E9A4B36B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45D6B3-635B-45BB-9795-150051B7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69F6C-36D6-4061-8190-2EDB8CB1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4408A-4EA0-42FB-AEB4-DA0751F1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30EFE-6EC4-4F35-A57F-ECF90AF5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DB2CE-BE70-4509-9283-628389EE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25727E-875C-46F6-BDCE-AF900855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AAF237-2CD4-474D-A489-2B3BDCFA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C1935-A5D1-46DF-BC5E-426A1131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C464F-39BA-4A8C-9C47-5A7A3057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B72A8-BEAA-4F29-B64B-AE4CC53B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4E99B-ABF1-4D6A-B425-C0547E35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A42D39-6CAB-44D4-B7F1-C532449D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521B24-3348-4702-9F60-03DE1CB4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C4DE0-AEE9-4594-8410-26D0F392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3FA48-3EFD-44EC-8681-1EF70CEA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2C0502-0138-4A5D-BA62-88A56236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D6DE1-C8F0-41C5-909F-2DC0409B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4A17A9-FE7A-4DF3-A3CA-45F70259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57E97B-E243-40C7-B9C0-57F6276A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3B0DB-4E50-4252-AA47-568998EF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B97409-E855-4341-82EB-7B390224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72B16-F4DB-4023-9668-7C2C69AC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745F8F-61DB-43EA-8CB8-394E78E8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C072F-FD7C-4DD4-A86A-FA28F048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FCAD43-CC6D-4403-A647-74477552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13D94-9467-4FE9-BC6B-05516966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F560F-EBA3-4B5D-A455-A2B848E7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C6AA7-25C6-4B22-BCF9-D36CA27C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A8540-55C6-4FF7-846A-69A2A80D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AE84D-47E9-43D0-8789-D0AF27D5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90BF0-44FB-4BBB-8730-BF3361BD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734C4-C6AA-433B-8A19-1BF78938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4E5B6-E983-491E-9B4E-8BD6DEF5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5AF351-68F8-4D84-85FC-CE4CD3C7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2EE6B-A9A9-4EA1-81EA-F446DF41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E01D0-444E-4894-90C3-E9E92558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1B3CBE-74A5-469E-A65F-D4B2C724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472C9A-CEBC-4B3C-A931-7B644CD2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6F42C7-76B7-41A2-881C-94961F3A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A4B34-5C54-4FAF-8240-949581E5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C039C6-F002-434D-A2AC-8DB568A9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DA6570-F089-499B-AD2F-B027D3F2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A20B5-6D88-4CF4-B30F-DD174B03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55534-725E-45DD-8634-090056D7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833AAB-B0CB-4044-B869-43D4DF66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8FB1C1-A998-4965-9BF4-FEECB8FC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001B30-97FB-46FA-A303-8D82B7AA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0AFEB-532A-4359-BFA7-AECC5D11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8E0669-713C-4903-B5C6-0811385C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7A9856-A837-4D1F-84A1-5DFB4CA7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18AB32-C5F3-4CFB-A093-BACBBE13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368D2B-3ACE-48FC-BA92-3A8287A8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3060B7-315C-4FC4-BB0E-F8C657E6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484F90-AAB8-443E-ADB9-55871594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869A6F-64CD-4255-A65C-380D21CC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6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7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0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1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3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4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65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467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68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471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72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3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74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60DE-45CC-46FB-B14D-8C6C05775606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5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713C-DCF8-4EC8-8708-DA87D070179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6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17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19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0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23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4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5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6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6370-A9F2-4543-87E0-8DC50D8F6109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8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4FE3-5F76-4941-8DB2-DAB9331B44E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68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69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71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2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75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6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7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8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CF17-DFD8-44DA-8982-12F87598B4EB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1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D1B7-8D72-4F47-9559-1D64A027348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6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2"/>
          </p:nvPr>
        </p:nvSpPr>
        <p:spPr>
          <a:xfrm>
            <a:off x="2481120" y="6152760"/>
            <a:ext cx="41817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10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0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1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5ECE-2498-4ED3-9AF8-C11568B710A5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4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CD45-F2F4-4FCD-B276-3B9DA038E95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2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53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155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56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59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60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62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2D5D-4627-4469-BA95-4E5F3CFC3D89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7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B9AE-CBB0-4B49-A6EE-B9D6FB04395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4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05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207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08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211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12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14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BA30-40E4-403A-9989-A794AF18100E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0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4D84-6897-4C95-923C-98259E32000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6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57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259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0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263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4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5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6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B4FA-41E1-4504-BEC1-A74645A3A3B0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A6B2-ECB5-4715-B204-CE6459992E2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8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09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311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2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315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6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7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8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7AE8-6C05-409F-9288-AC1C0FF4EA80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6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6E54-2085-4BAB-929A-4E15F5057F3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36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36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7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3EDF-06BE-4892-AF8A-872BE6E442C2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9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7893-E5EE-4216-AFEE-5A0006EEBD9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2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13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415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16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419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20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1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22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3883-DE03-447F-9800-D4800A2636ED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2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F1B7-7302-4F9C-A1FE-B47CD639935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frossiana@abv.bg" TargetMode="External"/><Relationship Id="rId2" Type="http://schemas.openxmlformats.org/officeDocument/2006/relationships/hyperlink" Target="mailto:parvanova.m.ivanova@gmail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73040" y="1239840"/>
            <a:ext cx="832968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Изложбите на Националния статистически институт 2020 – 2024 г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Footer Placeholder 3"/>
          <p:cNvSpPr/>
          <p:nvPr/>
        </p:nvSpPr>
        <p:spPr>
          <a:xfrm>
            <a:off x="2481120" y="580536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54000" y="4192560"/>
            <a:ext cx="209232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Антоанета Илкова – директор на дирекция „Многосекторна статистика, методология и регистри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.12.2024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1" descr=""/>
          <p:cNvPicPr/>
          <p:nvPr/>
        </p:nvPicPr>
        <p:blipFill>
          <a:blip r:embed="rId1"/>
          <a:stretch/>
        </p:blipFill>
        <p:spPr>
          <a:xfrm>
            <a:off x="2060640" y="2828880"/>
            <a:ext cx="65484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20640" y="2363760"/>
            <a:ext cx="7894800" cy="26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хода на подготовката за отбелязването на 145 годишнина на българската статистика НСИ вече изпрати официално писмо до Столична община за запазване на дат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и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1142640" y="4889160"/>
            <a:ext cx="607860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БЛАГОДАРЯ ЗА ВНИМАНИЕТ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Picture 4" descr=""/>
          <p:cNvPicPr/>
          <p:nvPr/>
        </p:nvPicPr>
        <p:blipFill>
          <a:blip r:embed="rId1"/>
          <a:stretch/>
        </p:blipFill>
        <p:spPr>
          <a:xfrm>
            <a:off x="628560" y="1327320"/>
            <a:ext cx="678024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През 2020 г. Националният статистически институт (НСИ) стартира първата си изложба на открито, за да постави началото на нова форма на комуникация на статистическата информация с потребителите. Паната със статистическа информация се показват в столицата и други големи градове на България. Тематичният им обхват дава възможност на широката аудитория от подрастващи, академични представители, служители в държавния и частния сектор и граждани да се запознаят с богатството от архивния и съвременния фонд на НСИ, като акцентът винаги се поставя върху актуалните теми от действителността.  От тогава до днес тази инициатива се превърна в традиция и през 2024 г.  се проведе петата изложба на НС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743120" y="1062000"/>
            <a:ext cx="5803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500"/>
            </a:br>
            <a:r>
              <a:rPr b="1" lang="bg-BG" sz="4000" spc="-1" strike="noStrike">
                <a:solidFill>
                  <a:srgbClr val="000000"/>
                </a:solidFill>
                <a:latin typeface="Calibri"/>
              </a:rPr>
              <a:t>2020 г.</a:t>
            </a:r>
            <a:br>
              <a:rPr sz="4000"/>
            </a:br>
            <a:r>
              <a:rPr b="1" lang="bg-BG" sz="4000" spc="-1" strike="noStrike">
                <a:solidFill>
                  <a:srgbClr val="000000"/>
                </a:solidFill>
                <a:latin typeface="Calibri"/>
              </a:rPr>
              <a:t>„140 години българска статистика“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023840" y="3129120"/>
            <a:ext cx="70898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рез 2020 г. изложбата е посветена на 140 г. българска статист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одредена е в галерия на открито „Мост на влюбените“ при НДК – Соф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а 60 пана (по 30 на български и английски език) е представен богатият фонд от архивни и съвременни данни на НС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В рамките на три седмици (от 25 юни до 16 юли) изложбата е посетена от хиляди граждани и гости на столица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540160" y="1100160"/>
            <a:ext cx="510048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3300" spc="-1" strike="noStrike">
                <a:solidFill>
                  <a:srgbClr val="000000"/>
                </a:solidFill>
                <a:latin typeface="Calibri Light"/>
              </a:rPr>
              <a:t>         </a:t>
            </a:r>
            <a:r>
              <a:rPr b="1" lang="bg-BG" sz="4000" spc="-1" strike="noStrike">
                <a:solidFill>
                  <a:srgbClr val="000000"/>
                </a:solidFill>
                <a:latin typeface="Calibri"/>
              </a:rPr>
              <a:t>2021 г.</a:t>
            </a:r>
            <a:br>
              <a:rPr sz="4000"/>
            </a:br>
            <a:r>
              <a:rPr b="1" lang="bg-BG" sz="4000" spc="-1" strike="noStrike">
                <a:solidFill>
                  <a:srgbClr val="000000"/>
                </a:solidFill>
                <a:latin typeface="Calibri"/>
              </a:rPr>
              <a:t>„Преброяване 2021“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28560" y="2455920"/>
            <a:ext cx="78868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Отново на „Моста на влюбените“ при НДК – София са изложени 60-те пана, които представят историята на преброяванията в Българ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Изложбата е част от комуникационната кампания за Преброяване 2021 и е на разположение на публиката във втората половина на месец авгус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През септември е изложена в Русе, Варна и Пловди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0640" y="1193400"/>
            <a:ext cx="54388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Calibri"/>
              </a:rPr>
              <a:t>2022 г. </a:t>
            </a:r>
            <a:br>
              <a:rPr sz="4000"/>
            </a:br>
            <a:r>
              <a:rPr b="1" lang="bg-BG" sz="4000" spc="-1" strike="noStrike">
                <a:solidFill>
                  <a:srgbClr val="000000"/>
                </a:solidFill>
                <a:latin typeface="Calibri"/>
              </a:rPr>
              <a:t>„Статистика за всеки“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1080720" y="2541600"/>
            <a:ext cx="7140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Изложбата е позиционирана в Галерията на открито „Градска градина“ пред Народния театър в София, включва 28 пана (оп 14 на български и на английски език) и е на разположение от 2 до 18 септемвр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Фокусът е върху статистическите продукти и услуги, начините за разпространение на информацията и възможностите за комуникация с НСИ. Важно място в изложбата заемат Европейската олимпиада по статистика за ученици и Международният конкурс за статистически плакат за ученици и студенти, в които българските отбори  имат спечелени първи ме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31920" y="1108080"/>
            <a:ext cx="6703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2023 г.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„Да преобразим нашия свят. Цели за устойчиво развитие до 2030 г.“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28560" y="2324160"/>
            <a:ext cx="788688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На 28 пана (по 14 на български и английски език)  в градината „Кристал“ в София са изобразени целите за устойчиво развитие, допълнени с графики и данни на НСИ. Изложбата е показана в София и Русе. Запознаването на обществеността с темата за устойчивото развитие до 2030 г., с нейните индикатори за отчитане и наличните статистически данни се посреща с особено внимание като НСИ получи обратна връзка за полезността на изложбата от потребители от всякакви възрастови, образователни и институционални категории. Много важна е оценка за инициативата, като тя открои навременността и необходимостта да се продължи и в бъдеще да се развива този канал за комуникация със специализираната и с непрофесионалната публик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565360" y="1154160"/>
            <a:ext cx="554832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2024 г. 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„ Младите хора в България като част от европейското семейство“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255680" y="2639520"/>
            <a:ext cx="685800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Тази година изложбата е в градината пред Народния театър „Иван Вазов“, София и в шест големи града на страната – Варна, Велико Търново, Враца, Пловдив, Бургас, Благоевград и 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повод Европейския ден на статистиката - 20 октомвр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й е „най-младият“ град в България, какъв е делът на заетост на младите хора у нас в различните възрастови групи от 16 до 29 години, колко са висшистите, какви са интересите 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средата на август до края на октомври широката публика имаше възможност да открие за себе си най-любопитните данни, свързани с младеж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4" descr=""/>
          <p:cNvPicPr/>
          <p:nvPr/>
        </p:nvPicPr>
        <p:blipFill>
          <a:blip r:embed="rId1"/>
          <a:stretch/>
        </p:blipFill>
        <p:spPr>
          <a:xfrm>
            <a:off x="155520" y="988920"/>
            <a:ext cx="22003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1122480"/>
            <a:ext cx="788688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 rot="20703600">
            <a:off x="449280" y="1535040"/>
            <a:ext cx="17748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 играта „Селфи с платното, което Ви харесва най-много“ участие взеха общо 39 душ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4" descr=""/>
          <p:cNvPicPr/>
          <p:nvPr/>
        </p:nvPicPr>
        <p:blipFill>
          <a:blip r:embed="rId1"/>
          <a:stretch/>
        </p:blipFill>
        <p:spPr>
          <a:xfrm>
            <a:off x="2481120" y="1030320"/>
            <a:ext cx="5519880" cy="420984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5"/>
          <p:cNvSpPr/>
          <p:nvPr/>
        </p:nvSpPr>
        <p:spPr>
          <a:xfrm rot="1587600">
            <a:off x="461520" y="4484520"/>
            <a:ext cx="27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ъв викторината „Сканирай и спечели“ участие взеха 126 душ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370240" y="3709800"/>
            <a:ext cx="4689360" cy="26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Frossiana Nikolova </a:t>
            </a:r>
            <a:r>
              <a:rPr b="0" lang="bg-BG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  <a:hlinkClick r:id="rId1"/>
              </a:rPr>
              <a:t>frossiana@abv.bg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 от Варна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Здравейте, уцелих изложбата на входа на морската градина във Варна, разхождайки бебето и много ми хареса с данни става най-ясно особено много актуална тема за майките тъй като не даваме екрани на децата, за да не затъпяват :) Направих пост и в социалните мрежи с данни имаше много коментари, много добра е съпоставката и със страните от ЕС!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 rot="468000">
            <a:off x="4873680" y="123804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Milena Parvanova </a:t>
            </a:r>
            <a:r>
              <a:rPr b="0" lang="bg-BG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  <a:hlinkClick r:id="rId2"/>
              </a:rPr>
              <a:t>parvanova.m.ivanova@gmail.com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Здравейте от Търново и честит празник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Изпращам селфи с любимото ми пано (Каква част от младежите живеят с родителите си) и искам да споделя, че инициативата ви е прекрас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Успех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4"/>
          <p:cNvSpPr/>
          <p:nvPr/>
        </p:nvSpPr>
        <p:spPr>
          <a:xfrm rot="21043800">
            <a:off x="380520" y="1112400"/>
            <a:ext cx="415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Здравейт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Поздравления! Изложбата Ви съдържа много интересни данни, които вълнуват нашето семейств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а и предполагам още много други български семей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лагам моята снимка с пано от изложбата в град Пловдив. С уважени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Пепа Динчева Килиджий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7T14:39:36Z</dcterms:created>
  <dc:creator>Kostadin Georgiev</dc:creator>
  <dc:description/>
  <dc:language>en-US</dc:language>
  <cp:lastModifiedBy>Natasha Petrova-Marinova</cp:lastModifiedBy>
  <dcterms:modified xsi:type="dcterms:W3CDTF">2024-12-11T15:16:11Z</dcterms:modified>
  <cp:revision>40</cp:revision>
  <dc:subject/>
  <dc:title>PowerPoint Presentation</dc:title>
</cp:coreProperties>
</file>