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wmf" ContentType="image/x-wmf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Natasha Petrova-Marinova" initials="NP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presProps" Target="presProps.xml"/><Relationship Id="rId26" Type="http://schemas.openxmlformats.org/officeDocument/2006/relationships/commentAuthors" Target="commentAuthors.xml"/>
</Relationships>
</file>

<file path=ppt/comments/comment4.xml><?xml version="1.0" encoding="utf-8"?>
<p:cmLst xmlns:p="http://schemas.openxmlformats.org/presentationml/2006/main">
  <p:cm authorId="0" dt="2024-11-21T21:37:01.516000000" idx="1">
    <p:pos x="10" y="10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2DF0E3A-0ABC-4EB6-94D3-18AA0277C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A0CEE21-7A15-48DA-9C07-D4C322345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8BDF423-D9C6-48B5-9E88-601D4C0C9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24BB899-BB23-4496-9730-935D982C0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A315FF0-1594-4D9E-8CB1-60E68C23F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A3ADCBF-A247-4E0A-AE54-166304C92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770CDA0-2D6E-4DF6-AEB6-978A071DE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69DB53D-FD8B-4F1A-8474-61E9D351E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8D0868A-4FD3-4A88-BA41-9709445E6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EF7A535-F33E-44A0-A5A1-50849DA70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148A78B-39A4-46E5-8A71-460A8BB3B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0999472-EFCB-4A6F-8E74-1C1F53953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4D09E0C-75AC-432C-9C1D-C72579EFA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30A30BF-5074-43A5-9050-B4F777853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B19BBAB-B6A6-4833-8EEE-4C012DED7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A65E832-4230-4DD2-A315-14E1645EC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CC8DC67-DF66-4267-BAF3-955EDD9A9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09EEEC0-992C-4DD3-8536-69FEDE461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247D639-0F4F-4853-9B1C-13031DFC1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6FCBAE6-4662-4212-938A-62FBC5229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DAE94CE-F9DB-4E9B-AF6C-7ABB5BBA6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D66FC54-232E-4053-9F19-9315099FE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8DF8C13-7E8E-458B-844E-7C64DD2E9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B52BDEE-AD6D-4B18-A7C6-540127255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B4EBD4F-62A8-4911-B333-8B6AD9F94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25B35B5-5E4C-40F7-A5C2-96C3EFC3D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E77AEA0-E362-4B0E-A80D-5C28AE44F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C7495BD-421D-4810-B03D-32E85D7EB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AAFA9BA-2E90-4DE5-B918-0326F242E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CB61874-C6E8-48D1-8B84-2F12F3E71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FD7D9A9-F682-4F76-B272-65721E2CF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5BE26EC-232D-4D71-BC4B-4BCB7DF60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89DFE66-080A-473A-A58D-B8C47F8F0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F523495-89E5-4AAA-A1C0-A0CF6D1E2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21A3727-8B27-4E42-B588-5804F26DD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D631648-9C65-4F0F-AB16-FFD892379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7DEBCDE-AB12-4804-A599-4C984AD04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D1FB7C2-DDEE-400D-BD06-B91D5027B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7BB1101-BE87-4252-BC84-45C838350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DCFC951-4B65-4850-9499-049A69D04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8AFAE8A-ACF1-41D6-A04E-BC4EEBE82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866F586-A17C-4630-8AA6-D3AD0572C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CB354B6-1A6F-469B-882A-D4F5DAD9F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A874131-221F-4F06-96E3-8FFA1F7B6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4A45274-EA0A-4067-A0E2-4D7A46EC8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633BDD-EE9E-4F4A-966A-352F56B99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11FEAF-FB48-4390-8054-1FF12C172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C622AD-6E34-497B-B573-73D1E2BC8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DDDD04-EE9D-422C-B8F2-918048A2C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7D5164-F65E-478A-B695-490708861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893391-EFD6-453F-8AA4-DDCF63BA5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2FC0B8-4EC1-4D99-8C04-AE60CB686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B19767-B76D-4139-964E-6A8BF0842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A8CE31-1333-419D-9932-111AA1FB4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0643F7-18E8-4494-891D-AE12C4284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EF81F6-7CF6-4260-8FBA-BD25850D2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E17550-E7E6-4A66-AA0F-F89EF9E58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F48522-E3D7-4EBB-B99F-2FDD05C6C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8B78DA-6252-484D-A780-58F33369C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04646E-6714-4080-AC04-C60C19021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8898AC-70B8-4044-A6AE-464A986FD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C37B84-A9EF-4561-828E-E0ED99897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ED34ED-7CFB-48C6-AB64-0BFE154DD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7267BB-9189-428D-BE85-4AAE44035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0B1ECD-E92A-4C5D-B822-0B82CBA43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ADFBA1-A5C4-40D2-B56B-CD915F97C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2B29FE-73DE-42F7-B245-5BEE7EEC9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67B5E8-D228-4F94-B800-0D1AA7C28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8751C4-3BF6-407F-BB89-072C9457F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1A36913-DD71-472C-B746-BB71B0BE4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AC56FD9-E370-4D1D-A942-3403E0C5F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2C8FF49-060C-44F0-AFAB-B71A98135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8935986-2ECF-4EC2-B006-E3581DB02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AA1260E-9FE3-42C7-880B-159EA6742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E01551D-4473-43D0-824F-07D192400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5DE580C-7AF5-44C8-9FB0-F296D3C39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145F77C-F61B-4CAD-902E-C6DA86F4E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06C72F0-7B2B-41DB-AD5C-62F731F99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44304E3-690E-4CBD-8678-F960B73ED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075E112-6D73-4B1B-814B-8A98F9F52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EE6DBC4-D236-4799-BAB6-4F6185942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C99477C-85ED-45A4-9D13-450604105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53387B-75DE-4231-B45D-C951F4EE5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2CAAB5-EA39-4611-A155-71863CA9F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47D733-07FF-4284-BF80-16AC69FBF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784587-0A30-4219-B5C8-AA49B6F84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5CAC80-0CF9-4343-BED7-89A9FC0D4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026929-708A-4D33-95D0-B389A31B9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CE92472-96DF-4207-9BFD-5AA7F628B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F04F07-53D6-471C-BE78-1594A1857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5A8EDF9-2B1F-4FBF-BA71-34EEB9421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3ADFBB-9714-417B-8897-41C3E268D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44955D2-5004-4AFF-B4D5-DBDF1745F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4D48054-FC58-460D-8E9B-8C79A4717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224AF9F-7A14-4492-A663-1101F7BD1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B45794C-03C0-45CD-90F8-79CEDB358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0BEB993-0A0F-4385-8211-3E8C5DF3D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D320FC9-1286-47EF-B0F3-A1561BF15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D15810C-D56F-40B5-9714-208FA09B8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BBF5E21-D229-4782-A57E-B4C599215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464BCDA-8038-48D9-AAE5-B0815FC3A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0E967B1-5866-40BA-8BA1-519047F95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D3EABC-A6F2-4B2D-B495-6CAB36F30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6B4846D-A01C-4DE7-90D3-420BCFB74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E3409DF-FFD4-40FE-B576-6FA994ABE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3843ACA-C336-4E3B-B302-E6C41CDEF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E13F471-A5E0-4EAA-9604-5F98D12E7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F709954-9BAB-476F-95C0-B1A510D2A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C135854-F256-4970-98C5-0E23D4DDB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890903A-AD75-4D46-9CC7-385C634A0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0A57EAA-03BA-4D08-A556-B3F3A77D9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B7568FA-D9E8-47CB-8DD2-2DF796C22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235E821-ED38-4968-81C8-7D5424ED6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41258C3-D639-4D91-9098-4AFA9449B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AB9139A-0FC4-4B76-A5A7-FB67479B0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F5B48FE-8FC0-4CCA-A47A-044C1FB2E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3298A67-BEC0-4DBF-BA09-D05C84FE0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F6C7C02-8F00-42E5-BEC5-FA935A079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F62F2F2-A9CF-4BD5-9B55-F9F736FA5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6AF9D44-DE6F-4ED3-9647-32A51F812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378160" y="5893920"/>
            <a:ext cx="4201920" cy="7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Times New Roman"/>
              </a:rPr>
              <a:t>София 1038, България, ул. „П. Волов“ №2, тел: 02/ 9857 111, </a:t>
            </a: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nsi.bg, e-mail: info@nsi.b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" name="AutoShape 8"/>
          <p:cNvCxnSpPr/>
          <p:nvPr/>
        </p:nvCxnSpPr>
        <p:spPr>
          <a:xfrm>
            <a:off x="0" y="996480"/>
            <a:ext cx="7254000" cy="3564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4" name="Oval 9"/>
          <p:cNvSpPr/>
          <p:nvPr/>
        </p:nvSpPr>
        <p:spPr>
          <a:xfrm>
            <a:off x="7253280" y="1000080"/>
            <a:ext cx="63360" cy="6372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" name="Graphic 1" descr=""/>
          <p:cNvPicPr/>
          <p:nvPr/>
        </p:nvPicPr>
        <p:blipFill>
          <a:blip r:embed="rId2"/>
          <a:srcRect l="0" t="0" r="-264" b="-2953"/>
          <a:stretch/>
        </p:blipFill>
        <p:spPr>
          <a:xfrm>
            <a:off x="7496280" y="363600"/>
            <a:ext cx="846000" cy="861840"/>
          </a:xfrm>
          <a:prstGeom prst="rect">
            <a:avLst/>
          </a:prstGeom>
          <a:ln w="0">
            <a:noFill/>
          </a:ln>
        </p:spPr>
      </p:pic>
      <p:cxnSp>
        <p:nvCxnSpPr>
          <p:cNvPr id="6" name="AutoShape 8"/>
          <p:cNvCxnSpPr/>
          <p:nvPr/>
        </p:nvCxnSpPr>
        <p:spPr>
          <a:xfrm>
            <a:off x="8496000" y="1025280"/>
            <a:ext cx="648360" cy="684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7" name="Oval 9"/>
          <p:cNvSpPr/>
          <p:nvPr/>
        </p:nvSpPr>
        <p:spPr>
          <a:xfrm>
            <a:off x="8458200" y="996840"/>
            <a:ext cx="63360" cy="6372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TextBox 28"/>
          <p:cNvSpPr/>
          <p:nvPr/>
        </p:nvSpPr>
        <p:spPr>
          <a:xfrm>
            <a:off x="1338120" y="326880"/>
            <a:ext cx="4540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Calibri"/>
                <a:ea typeface="Μοντέρνα"/>
              </a:rPr>
              <a:t>РЕПУБЛИКА БЪЛГАР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Calibri"/>
                <a:ea typeface="Μοντέρνα"/>
              </a:rPr>
              <a:t>НАЦИОНАЛЕН СТАТИСТИЧЕСКИ ИНСТИТУ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" name="Picture 12" descr=""/>
          <p:cNvPicPr/>
          <p:nvPr/>
        </p:nvPicPr>
        <p:blipFill>
          <a:blip r:embed="rId3"/>
          <a:srcRect l="0" t="0" r="80421" b="0"/>
          <a:stretch/>
        </p:blipFill>
        <p:spPr>
          <a:xfrm>
            <a:off x="-79200" y="358920"/>
            <a:ext cx="1479240" cy="804600"/>
          </a:xfrm>
          <a:prstGeom prst="rect">
            <a:avLst/>
          </a:prstGeom>
          <a:ln w="0">
            <a:noFill/>
          </a:ln>
        </p:spPr>
      </p:pic>
      <p:cxnSp>
        <p:nvCxnSpPr>
          <p:cNvPr id="10" name="AutoShape 8"/>
          <p:cNvCxnSpPr/>
          <p:nvPr/>
        </p:nvCxnSpPr>
        <p:spPr>
          <a:xfrm>
            <a:off x="0" y="6179760"/>
            <a:ext cx="2270520" cy="108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11" name="Oval 9"/>
          <p:cNvSpPr/>
          <p:nvPr/>
        </p:nvSpPr>
        <p:spPr>
          <a:xfrm>
            <a:off x="2270160" y="6148440"/>
            <a:ext cx="63360" cy="6336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" name="AutoShape 8"/>
          <p:cNvCxnSpPr/>
          <p:nvPr/>
        </p:nvCxnSpPr>
        <p:spPr>
          <a:xfrm>
            <a:off x="6873840" y="6181200"/>
            <a:ext cx="2270520" cy="108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13" name="Oval 9"/>
          <p:cNvSpPr/>
          <p:nvPr/>
        </p:nvSpPr>
        <p:spPr>
          <a:xfrm>
            <a:off x="6815160" y="6153120"/>
            <a:ext cx="63360" cy="6336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64" name="AutoShape 8"/>
          <p:cNvCxnSpPr/>
          <p:nvPr/>
        </p:nvCxnSpPr>
        <p:spPr>
          <a:xfrm>
            <a:off x="0" y="996480"/>
            <a:ext cx="7254000" cy="3564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465" name="Oval 9"/>
          <p:cNvSpPr/>
          <p:nvPr/>
        </p:nvSpPr>
        <p:spPr>
          <a:xfrm>
            <a:off x="7253280" y="1000080"/>
            <a:ext cx="63360" cy="6372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6" name="Graphic 1" descr=""/>
          <p:cNvPicPr/>
          <p:nvPr/>
        </p:nvPicPr>
        <p:blipFill>
          <a:blip r:embed="rId2"/>
          <a:srcRect l="0" t="0" r="-264" b="-2953"/>
          <a:stretch/>
        </p:blipFill>
        <p:spPr>
          <a:xfrm>
            <a:off x="7496280" y="363600"/>
            <a:ext cx="846000" cy="861840"/>
          </a:xfrm>
          <a:prstGeom prst="rect">
            <a:avLst/>
          </a:prstGeom>
          <a:ln w="0">
            <a:noFill/>
          </a:ln>
        </p:spPr>
      </p:pic>
      <p:cxnSp>
        <p:nvCxnSpPr>
          <p:cNvPr id="467" name="AutoShape 8"/>
          <p:cNvCxnSpPr/>
          <p:nvPr/>
        </p:nvCxnSpPr>
        <p:spPr>
          <a:xfrm>
            <a:off x="8496000" y="1025280"/>
            <a:ext cx="648360" cy="684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468" name="Oval 9"/>
          <p:cNvSpPr/>
          <p:nvPr/>
        </p:nvSpPr>
        <p:spPr>
          <a:xfrm>
            <a:off x="8458200" y="996840"/>
            <a:ext cx="63360" cy="6372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TextBox 28"/>
          <p:cNvSpPr/>
          <p:nvPr/>
        </p:nvSpPr>
        <p:spPr>
          <a:xfrm>
            <a:off x="1338120" y="326880"/>
            <a:ext cx="4540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Calibri"/>
                <a:ea typeface="Μοντέρνα"/>
              </a:rPr>
              <a:t>РЕПУБЛИКА БЪЛГАР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Calibri"/>
                <a:ea typeface="Μοντέρνα"/>
              </a:rPr>
              <a:t>НАЦИОНАЛЕН СТАТИСТИЧЕСКИ ИНСТИТУ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0" name="Picture 12" descr=""/>
          <p:cNvPicPr/>
          <p:nvPr/>
        </p:nvPicPr>
        <p:blipFill>
          <a:blip r:embed="rId3"/>
          <a:srcRect l="0" t="0" r="80421" b="0"/>
          <a:stretch/>
        </p:blipFill>
        <p:spPr>
          <a:xfrm>
            <a:off x="-79200" y="358920"/>
            <a:ext cx="1479240" cy="804600"/>
          </a:xfrm>
          <a:prstGeom prst="rect">
            <a:avLst/>
          </a:prstGeom>
          <a:ln w="0">
            <a:noFill/>
          </a:ln>
        </p:spPr>
      </p:pic>
      <p:cxnSp>
        <p:nvCxnSpPr>
          <p:cNvPr id="471" name="AutoShape 8"/>
          <p:cNvCxnSpPr/>
          <p:nvPr/>
        </p:nvCxnSpPr>
        <p:spPr>
          <a:xfrm>
            <a:off x="0" y="6179760"/>
            <a:ext cx="2270520" cy="108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472" name="Oval 9"/>
          <p:cNvSpPr/>
          <p:nvPr/>
        </p:nvSpPr>
        <p:spPr>
          <a:xfrm>
            <a:off x="2270160" y="6148440"/>
            <a:ext cx="63360" cy="6336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73" name="AutoShape 8"/>
          <p:cNvCxnSpPr/>
          <p:nvPr/>
        </p:nvCxnSpPr>
        <p:spPr>
          <a:xfrm>
            <a:off x="6873840" y="6181200"/>
            <a:ext cx="2270520" cy="108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474" name="Oval 9"/>
          <p:cNvSpPr/>
          <p:nvPr/>
        </p:nvSpPr>
        <p:spPr>
          <a:xfrm>
            <a:off x="6815160" y="6153120"/>
            <a:ext cx="63360" cy="6336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2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0BA7E-A55E-4C7B-9FAF-1AA561608CC4}" type="datetime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25"/>
          </p:nvPr>
        </p:nvSpPr>
        <p:spPr>
          <a:xfrm>
            <a:off x="2378160" y="5893920"/>
            <a:ext cx="4201920" cy="7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Times New Roman"/>
              </a:rPr>
              <a:t>София 1038, България, ул. „П. Волов“ №2, тел: 02/ 9857 111, </a:t>
            </a: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nsi.bg, e-mail: info@nsi.b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2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1936E-26D2-4F7B-9692-5EDC9C55CC7E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6" name="AutoShape 8"/>
          <p:cNvCxnSpPr/>
          <p:nvPr/>
        </p:nvCxnSpPr>
        <p:spPr>
          <a:xfrm>
            <a:off x="0" y="996480"/>
            <a:ext cx="7254000" cy="3564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517" name="Oval 9"/>
          <p:cNvSpPr/>
          <p:nvPr/>
        </p:nvSpPr>
        <p:spPr>
          <a:xfrm>
            <a:off x="7253280" y="1000080"/>
            <a:ext cx="63360" cy="6372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8" name="Graphic 1" descr=""/>
          <p:cNvPicPr/>
          <p:nvPr/>
        </p:nvPicPr>
        <p:blipFill>
          <a:blip r:embed="rId2"/>
          <a:srcRect l="0" t="0" r="-264" b="-2953"/>
          <a:stretch/>
        </p:blipFill>
        <p:spPr>
          <a:xfrm>
            <a:off x="7496280" y="363600"/>
            <a:ext cx="846000" cy="861840"/>
          </a:xfrm>
          <a:prstGeom prst="rect">
            <a:avLst/>
          </a:prstGeom>
          <a:ln w="0">
            <a:noFill/>
          </a:ln>
        </p:spPr>
      </p:pic>
      <p:cxnSp>
        <p:nvCxnSpPr>
          <p:cNvPr id="519" name="AutoShape 8"/>
          <p:cNvCxnSpPr/>
          <p:nvPr/>
        </p:nvCxnSpPr>
        <p:spPr>
          <a:xfrm>
            <a:off x="8496000" y="1025280"/>
            <a:ext cx="648360" cy="684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520" name="Oval 9"/>
          <p:cNvSpPr/>
          <p:nvPr/>
        </p:nvSpPr>
        <p:spPr>
          <a:xfrm>
            <a:off x="8458200" y="996840"/>
            <a:ext cx="63360" cy="6372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TextBox 28"/>
          <p:cNvSpPr/>
          <p:nvPr/>
        </p:nvSpPr>
        <p:spPr>
          <a:xfrm>
            <a:off x="1338120" y="326880"/>
            <a:ext cx="4540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Calibri"/>
                <a:ea typeface="Μοντέρνα"/>
              </a:rPr>
              <a:t>РЕПУБЛИКА БЪЛГАР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Calibri"/>
                <a:ea typeface="Μοντέρνα"/>
              </a:rPr>
              <a:t>НАЦИОНАЛЕН СТАТИСТИЧЕСКИ ИНСТИТУ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2" name="Picture 12" descr=""/>
          <p:cNvPicPr/>
          <p:nvPr/>
        </p:nvPicPr>
        <p:blipFill>
          <a:blip r:embed="rId3"/>
          <a:srcRect l="0" t="0" r="80421" b="0"/>
          <a:stretch/>
        </p:blipFill>
        <p:spPr>
          <a:xfrm>
            <a:off x="-79200" y="358920"/>
            <a:ext cx="1479240" cy="804600"/>
          </a:xfrm>
          <a:prstGeom prst="rect">
            <a:avLst/>
          </a:prstGeom>
          <a:ln w="0">
            <a:noFill/>
          </a:ln>
        </p:spPr>
      </p:pic>
      <p:cxnSp>
        <p:nvCxnSpPr>
          <p:cNvPr id="523" name="AutoShape 8"/>
          <p:cNvCxnSpPr/>
          <p:nvPr/>
        </p:nvCxnSpPr>
        <p:spPr>
          <a:xfrm>
            <a:off x="0" y="6179760"/>
            <a:ext cx="2270520" cy="108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524" name="Oval 9"/>
          <p:cNvSpPr/>
          <p:nvPr/>
        </p:nvSpPr>
        <p:spPr>
          <a:xfrm>
            <a:off x="2270160" y="6148440"/>
            <a:ext cx="63360" cy="6336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25" name="AutoShape 8"/>
          <p:cNvCxnSpPr/>
          <p:nvPr/>
        </p:nvCxnSpPr>
        <p:spPr>
          <a:xfrm>
            <a:off x="6873840" y="6181200"/>
            <a:ext cx="2270520" cy="108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526" name="Oval 9"/>
          <p:cNvSpPr/>
          <p:nvPr/>
        </p:nvSpPr>
        <p:spPr>
          <a:xfrm>
            <a:off x="6815160" y="6153120"/>
            <a:ext cx="63360" cy="6336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 type="dt" idx="2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EAA20-C5D6-4A46-A75E-6B128A47211C}" type="datetime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 type="ftr" idx="28"/>
          </p:nvPr>
        </p:nvSpPr>
        <p:spPr>
          <a:xfrm>
            <a:off x="2378160" y="5893920"/>
            <a:ext cx="4201920" cy="7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Times New Roman"/>
              </a:rPr>
              <a:t>София 1038, България, ул. „П. Волов“ №2, тел: 02/ 9857 111, </a:t>
            </a: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nsi.bg, e-mail: info@nsi.b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 type="sldNum" idx="2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2D2D4-4954-42B2-A9BD-440C77EE2F9F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68" name="AutoShape 8"/>
          <p:cNvCxnSpPr/>
          <p:nvPr/>
        </p:nvCxnSpPr>
        <p:spPr>
          <a:xfrm>
            <a:off x="0" y="996480"/>
            <a:ext cx="7254000" cy="3564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569" name="Oval 9"/>
          <p:cNvSpPr/>
          <p:nvPr/>
        </p:nvSpPr>
        <p:spPr>
          <a:xfrm>
            <a:off x="7253280" y="1000080"/>
            <a:ext cx="63360" cy="6372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0" name="Graphic 1" descr=""/>
          <p:cNvPicPr/>
          <p:nvPr/>
        </p:nvPicPr>
        <p:blipFill>
          <a:blip r:embed="rId2"/>
          <a:srcRect l="0" t="0" r="-264" b="-2953"/>
          <a:stretch/>
        </p:blipFill>
        <p:spPr>
          <a:xfrm>
            <a:off x="7496280" y="363600"/>
            <a:ext cx="846000" cy="861840"/>
          </a:xfrm>
          <a:prstGeom prst="rect">
            <a:avLst/>
          </a:prstGeom>
          <a:ln w="0">
            <a:noFill/>
          </a:ln>
        </p:spPr>
      </p:pic>
      <p:cxnSp>
        <p:nvCxnSpPr>
          <p:cNvPr id="571" name="AutoShape 8"/>
          <p:cNvCxnSpPr/>
          <p:nvPr/>
        </p:nvCxnSpPr>
        <p:spPr>
          <a:xfrm>
            <a:off x="8496000" y="1025280"/>
            <a:ext cx="648360" cy="684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572" name="Oval 9"/>
          <p:cNvSpPr/>
          <p:nvPr/>
        </p:nvSpPr>
        <p:spPr>
          <a:xfrm>
            <a:off x="8458200" y="996840"/>
            <a:ext cx="63360" cy="6372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TextBox 28"/>
          <p:cNvSpPr/>
          <p:nvPr/>
        </p:nvSpPr>
        <p:spPr>
          <a:xfrm>
            <a:off x="1338120" y="326880"/>
            <a:ext cx="4540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Calibri"/>
                <a:ea typeface="Μοντέρνα"/>
              </a:rPr>
              <a:t>РЕПУБЛИКА БЪЛГАР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Calibri"/>
                <a:ea typeface="Μοντέρνα"/>
              </a:rPr>
              <a:t>НАЦИОНАЛЕН СТАТИСТИЧЕСКИ ИНСТИТУ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4" name="Picture 12" descr=""/>
          <p:cNvPicPr/>
          <p:nvPr/>
        </p:nvPicPr>
        <p:blipFill>
          <a:blip r:embed="rId3"/>
          <a:srcRect l="0" t="0" r="80421" b="0"/>
          <a:stretch/>
        </p:blipFill>
        <p:spPr>
          <a:xfrm>
            <a:off x="-79200" y="358920"/>
            <a:ext cx="1479240" cy="804600"/>
          </a:xfrm>
          <a:prstGeom prst="rect">
            <a:avLst/>
          </a:prstGeom>
          <a:ln w="0">
            <a:noFill/>
          </a:ln>
        </p:spPr>
      </p:pic>
      <p:cxnSp>
        <p:nvCxnSpPr>
          <p:cNvPr id="575" name="AutoShape 8"/>
          <p:cNvCxnSpPr/>
          <p:nvPr/>
        </p:nvCxnSpPr>
        <p:spPr>
          <a:xfrm>
            <a:off x="0" y="6179760"/>
            <a:ext cx="2270520" cy="108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576" name="Oval 9"/>
          <p:cNvSpPr/>
          <p:nvPr/>
        </p:nvSpPr>
        <p:spPr>
          <a:xfrm>
            <a:off x="2270160" y="6148440"/>
            <a:ext cx="63360" cy="6336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77" name="AutoShape 8"/>
          <p:cNvCxnSpPr/>
          <p:nvPr/>
        </p:nvCxnSpPr>
        <p:spPr>
          <a:xfrm>
            <a:off x="6873840" y="6181200"/>
            <a:ext cx="2270520" cy="108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578" name="Oval 9"/>
          <p:cNvSpPr/>
          <p:nvPr/>
        </p:nvSpPr>
        <p:spPr>
          <a:xfrm>
            <a:off x="6815160" y="6153120"/>
            <a:ext cx="63360" cy="6336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3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DD9D3-3D80-4BDF-BEAF-19D04560BE87}" type="datetime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31"/>
          </p:nvPr>
        </p:nvSpPr>
        <p:spPr>
          <a:xfrm>
            <a:off x="2378160" y="5893920"/>
            <a:ext cx="4201920" cy="7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Times New Roman"/>
              </a:rPr>
              <a:t>София 1038, България, ул. „П. Волов“ №2, тел: 02/ 9857 111, </a:t>
            </a: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nsi.bg, e-mail: info@nsi.b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32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EA81B-6F09-45E2-95E3-915638636E00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0" name="AutoShape 8"/>
          <p:cNvCxnSpPr/>
          <p:nvPr/>
        </p:nvCxnSpPr>
        <p:spPr>
          <a:xfrm>
            <a:off x="0" y="996480"/>
            <a:ext cx="7254000" cy="3564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51" name="Oval 9"/>
          <p:cNvSpPr/>
          <p:nvPr/>
        </p:nvSpPr>
        <p:spPr>
          <a:xfrm>
            <a:off x="7253280" y="1000080"/>
            <a:ext cx="63360" cy="6372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Graphic 1" descr=""/>
          <p:cNvPicPr/>
          <p:nvPr/>
        </p:nvPicPr>
        <p:blipFill>
          <a:blip r:embed="rId2"/>
          <a:srcRect l="0" t="0" r="-264" b="-2953"/>
          <a:stretch/>
        </p:blipFill>
        <p:spPr>
          <a:xfrm>
            <a:off x="7496280" y="363600"/>
            <a:ext cx="846000" cy="861840"/>
          </a:xfrm>
          <a:prstGeom prst="rect">
            <a:avLst/>
          </a:prstGeom>
          <a:ln w="0">
            <a:noFill/>
          </a:ln>
        </p:spPr>
      </p:pic>
      <p:cxnSp>
        <p:nvCxnSpPr>
          <p:cNvPr id="53" name="AutoShape 8"/>
          <p:cNvCxnSpPr/>
          <p:nvPr/>
        </p:nvCxnSpPr>
        <p:spPr>
          <a:xfrm>
            <a:off x="8496000" y="1025280"/>
            <a:ext cx="648360" cy="684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54" name="Oval 9"/>
          <p:cNvSpPr/>
          <p:nvPr/>
        </p:nvSpPr>
        <p:spPr>
          <a:xfrm>
            <a:off x="8458200" y="996840"/>
            <a:ext cx="63360" cy="6372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28"/>
          <p:cNvSpPr/>
          <p:nvPr/>
        </p:nvSpPr>
        <p:spPr>
          <a:xfrm>
            <a:off x="1338120" y="326880"/>
            <a:ext cx="4540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Calibri"/>
                <a:ea typeface="Μοντέρνα"/>
              </a:rPr>
              <a:t>РЕПУБЛИКА БЪЛГАР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Calibri"/>
                <a:ea typeface="Μοντέρνα"/>
              </a:rPr>
              <a:t>НАЦИОНАЛЕН СТАТИСТИЧЕСКИ ИНСТИТУ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12" descr=""/>
          <p:cNvPicPr/>
          <p:nvPr/>
        </p:nvPicPr>
        <p:blipFill>
          <a:blip r:embed="rId3"/>
          <a:srcRect l="0" t="0" r="80421" b="0"/>
          <a:stretch/>
        </p:blipFill>
        <p:spPr>
          <a:xfrm>
            <a:off x="-79200" y="358920"/>
            <a:ext cx="1479240" cy="804600"/>
          </a:xfrm>
          <a:prstGeom prst="rect">
            <a:avLst/>
          </a:prstGeom>
          <a:ln w="0">
            <a:noFill/>
          </a:ln>
        </p:spPr>
      </p:pic>
      <p:cxnSp>
        <p:nvCxnSpPr>
          <p:cNvPr id="57" name="AutoShape 8"/>
          <p:cNvCxnSpPr/>
          <p:nvPr/>
        </p:nvCxnSpPr>
        <p:spPr>
          <a:xfrm>
            <a:off x="0" y="6179760"/>
            <a:ext cx="2270520" cy="108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58" name="Oval 9"/>
          <p:cNvSpPr/>
          <p:nvPr/>
        </p:nvSpPr>
        <p:spPr>
          <a:xfrm>
            <a:off x="2270160" y="6148440"/>
            <a:ext cx="63360" cy="6336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9" name="AutoShape 8"/>
          <p:cNvCxnSpPr/>
          <p:nvPr/>
        </p:nvCxnSpPr>
        <p:spPr>
          <a:xfrm>
            <a:off x="6873840" y="6181200"/>
            <a:ext cx="2270520" cy="108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60" name="Oval 9"/>
          <p:cNvSpPr/>
          <p:nvPr/>
        </p:nvSpPr>
        <p:spPr>
          <a:xfrm>
            <a:off x="6815160" y="6153120"/>
            <a:ext cx="63360" cy="6336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2"/>
          </p:nvPr>
        </p:nvSpPr>
        <p:spPr>
          <a:xfrm>
            <a:off x="2481120" y="6152760"/>
            <a:ext cx="418176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Times New Roman"/>
              </a:rPr>
              <a:t>София 1038, България, ул. „П. Волов“ №2, тел: 02/ 9857 111, </a:t>
            </a: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nsi.bg, e-mail: info@nsi.b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00" name="AutoShape 8"/>
          <p:cNvCxnSpPr/>
          <p:nvPr/>
        </p:nvCxnSpPr>
        <p:spPr>
          <a:xfrm>
            <a:off x="0" y="996480"/>
            <a:ext cx="7254000" cy="3564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101" name="Oval 9"/>
          <p:cNvSpPr/>
          <p:nvPr/>
        </p:nvSpPr>
        <p:spPr>
          <a:xfrm>
            <a:off x="7253280" y="1000080"/>
            <a:ext cx="63360" cy="6372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Graphic 1" descr=""/>
          <p:cNvPicPr/>
          <p:nvPr/>
        </p:nvPicPr>
        <p:blipFill>
          <a:blip r:embed="rId2"/>
          <a:srcRect l="0" t="0" r="-264" b="-2953"/>
          <a:stretch/>
        </p:blipFill>
        <p:spPr>
          <a:xfrm>
            <a:off x="7496280" y="363600"/>
            <a:ext cx="846000" cy="861840"/>
          </a:xfrm>
          <a:prstGeom prst="rect">
            <a:avLst/>
          </a:prstGeom>
          <a:ln w="0">
            <a:noFill/>
          </a:ln>
        </p:spPr>
      </p:pic>
      <p:cxnSp>
        <p:nvCxnSpPr>
          <p:cNvPr id="103" name="AutoShape 8"/>
          <p:cNvCxnSpPr/>
          <p:nvPr/>
        </p:nvCxnSpPr>
        <p:spPr>
          <a:xfrm>
            <a:off x="8496000" y="1025280"/>
            <a:ext cx="648360" cy="684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104" name="Oval 9"/>
          <p:cNvSpPr/>
          <p:nvPr/>
        </p:nvSpPr>
        <p:spPr>
          <a:xfrm>
            <a:off x="8458200" y="996840"/>
            <a:ext cx="63360" cy="6372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Box 28"/>
          <p:cNvSpPr/>
          <p:nvPr/>
        </p:nvSpPr>
        <p:spPr>
          <a:xfrm>
            <a:off x="1338120" y="326880"/>
            <a:ext cx="4540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Calibri"/>
                <a:ea typeface="Μοντέρνα"/>
              </a:rPr>
              <a:t>РЕПУБЛИКА БЪЛГАР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Calibri"/>
                <a:ea typeface="Μοντέρνα"/>
              </a:rPr>
              <a:t>НАЦИОНАЛЕН СТАТИСТИЧЕСКИ ИНСТИТУ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12" descr=""/>
          <p:cNvPicPr/>
          <p:nvPr/>
        </p:nvPicPr>
        <p:blipFill>
          <a:blip r:embed="rId3"/>
          <a:srcRect l="0" t="0" r="80421" b="0"/>
          <a:stretch/>
        </p:blipFill>
        <p:spPr>
          <a:xfrm>
            <a:off x="-79200" y="358920"/>
            <a:ext cx="1479240" cy="804600"/>
          </a:xfrm>
          <a:prstGeom prst="rect">
            <a:avLst/>
          </a:prstGeom>
          <a:ln w="0">
            <a:noFill/>
          </a:ln>
        </p:spPr>
      </p:pic>
      <p:cxnSp>
        <p:nvCxnSpPr>
          <p:cNvPr id="107" name="AutoShape 8"/>
          <p:cNvCxnSpPr/>
          <p:nvPr/>
        </p:nvCxnSpPr>
        <p:spPr>
          <a:xfrm>
            <a:off x="0" y="6179760"/>
            <a:ext cx="2270520" cy="108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108" name="Oval 9"/>
          <p:cNvSpPr/>
          <p:nvPr/>
        </p:nvSpPr>
        <p:spPr>
          <a:xfrm>
            <a:off x="2270160" y="6148440"/>
            <a:ext cx="63360" cy="6336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9" name="AutoShape 8"/>
          <p:cNvCxnSpPr/>
          <p:nvPr/>
        </p:nvCxnSpPr>
        <p:spPr>
          <a:xfrm>
            <a:off x="6873840" y="6181200"/>
            <a:ext cx="2270520" cy="108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110" name="Oval 9"/>
          <p:cNvSpPr/>
          <p:nvPr/>
        </p:nvSpPr>
        <p:spPr>
          <a:xfrm>
            <a:off x="6815160" y="6153120"/>
            <a:ext cx="63360" cy="6336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04409-6C0D-431D-A799-9FC798F485AC}" type="datetime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4"/>
          </p:nvPr>
        </p:nvSpPr>
        <p:spPr>
          <a:xfrm>
            <a:off x="2378160" y="5893920"/>
            <a:ext cx="4201920" cy="7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Times New Roman"/>
              </a:rPr>
              <a:t>София 1038, България, ул. „П. Волов“ №2, тел: 02/ 9857 111, </a:t>
            </a: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nsi.bg, e-mail: info@nsi.b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2D954-727B-40D1-B1F7-DC842800E7BB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52" name="AutoShape 8"/>
          <p:cNvCxnSpPr/>
          <p:nvPr/>
        </p:nvCxnSpPr>
        <p:spPr>
          <a:xfrm>
            <a:off x="0" y="996480"/>
            <a:ext cx="7254000" cy="3564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153" name="Oval 9"/>
          <p:cNvSpPr/>
          <p:nvPr/>
        </p:nvSpPr>
        <p:spPr>
          <a:xfrm>
            <a:off x="7253280" y="1000080"/>
            <a:ext cx="63360" cy="6372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Graphic 1" descr=""/>
          <p:cNvPicPr/>
          <p:nvPr/>
        </p:nvPicPr>
        <p:blipFill>
          <a:blip r:embed="rId2"/>
          <a:srcRect l="0" t="0" r="-264" b="-2953"/>
          <a:stretch/>
        </p:blipFill>
        <p:spPr>
          <a:xfrm>
            <a:off x="7496280" y="363600"/>
            <a:ext cx="846000" cy="861840"/>
          </a:xfrm>
          <a:prstGeom prst="rect">
            <a:avLst/>
          </a:prstGeom>
          <a:ln w="0">
            <a:noFill/>
          </a:ln>
        </p:spPr>
      </p:pic>
      <p:cxnSp>
        <p:nvCxnSpPr>
          <p:cNvPr id="155" name="AutoShape 8"/>
          <p:cNvCxnSpPr/>
          <p:nvPr/>
        </p:nvCxnSpPr>
        <p:spPr>
          <a:xfrm>
            <a:off x="8496000" y="1025280"/>
            <a:ext cx="648360" cy="684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156" name="Oval 9"/>
          <p:cNvSpPr/>
          <p:nvPr/>
        </p:nvSpPr>
        <p:spPr>
          <a:xfrm>
            <a:off x="8458200" y="996840"/>
            <a:ext cx="63360" cy="6372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Box 28"/>
          <p:cNvSpPr/>
          <p:nvPr/>
        </p:nvSpPr>
        <p:spPr>
          <a:xfrm>
            <a:off x="1338120" y="326880"/>
            <a:ext cx="4540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Calibri"/>
                <a:ea typeface="Μοντέρνα"/>
              </a:rPr>
              <a:t>РЕПУБЛИКА БЪЛГАР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Calibri"/>
                <a:ea typeface="Μοντέρνα"/>
              </a:rPr>
              <a:t>НАЦИОНАЛЕН СТАТИСТИЧЕСКИ ИНСТИТУ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Picture 12" descr=""/>
          <p:cNvPicPr/>
          <p:nvPr/>
        </p:nvPicPr>
        <p:blipFill>
          <a:blip r:embed="rId3"/>
          <a:srcRect l="0" t="0" r="80421" b="0"/>
          <a:stretch/>
        </p:blipFill>
        <p:spPr>
          <a:xfrm>
            <a:off x="-79200" y="358920"/>
            <a:ext cx="1479240" cy="804600"/>
          </a:xfrm>
          <a:prstGeom prst="rect">
            <a:avLst/>
          </a:prstGeom>
          <a:ln w="0">
            <a:noFill/>
          </a:ln>
        </p:spPr>
      </p:pic>
      <p:cxnSp>
        <p:nvCxnSpPr>
          <p:cNvPr id="159" name="AutoShape 8"/>
          <p:cNvCxnSpPr/>
          <p:nvPr/>
        </p:nvCxnSpPr>
        <p:spPr>
          <a:xfrm>
            <a:off x="0" y="6179760"/>
            <a:ext cx="2270520" cy="108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160" name="Oval 9"/>
          <p:cNvSpPr/>
          <p:nvPr/>
        </p:nvSpPr>
        <p:spPr>
          <a:xfrm>
            <a:off x="2270160" y="6148440"/>
            <a:ext cx="63360" cy="6336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1" name="AutoShape 8"/>
          <p:cNvCxnSpPr/>
          <p:nvPr/>
        </p:nvCxnSpPr>
        <p:spPr>
          <a:xfrm>
            <a:off x="6873840" y="6181200"/>
            <a:ext cx="2270520" cy="108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162" name="Oval 9"/>
          <p:cNvSpPr/>
          <p:nvPr/>
        </p:nvSpPr>
        <p:spPr>
          <a:xfrm>
            <a:off x="6815160" y="6153120"/>
            <a:ext cx="63360" cy="6336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1DC9C-E110-4D60-9BE6-869DA59CA032}" type="datetime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7"/>
          </p:nvPr>
        </p:nvSpPr>
        <p:spPr>
          <a:xfrm>
            <a:off x="2378160" y="5893920"/>
            <a:ext cx="4201920" cy="7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Times New Roman"/>
              </a:rPr>
              <a:t>София 1038, България, ул. „П. Волов“ №2, тел: 02/ 9857 111, </a:t>
            </a: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nsi.bg, e-mail: info@nsi.b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8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95BF0-4807-4C43-8492-2DFB4215F094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04" name="AutoShape 8"/>
          <p:cNvCxnSpPr/>
          <p:nvPr/>
        </p:nvCxnSpPr>
        <p:spPr>
          <a:xfrm>
            <a:off x="0" y="996480"/>
            <a:ext cx="7254000" cy="3564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205" name="Oval 9"/>
          <p:cNvSpPr/>
          <p:nvPr/>
        </p:nvSpPr>
        <p:spPr>
          <a:xfrm>
            <a:off x="7253280" y="1000080"/>
            <a:ext cx="63360" cy="6372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Graphic 1" descr=""/>
          <p:cNvPicPr/>
          <p:nvPr/>
        </p:nvPicPr>
        <p:blipFill>
          <a:blip r:embed="rId2"/>
          <a:srcRect l="0" t="0" r="-264" b="-2953"/>
          <a:stretch/>
        </p:blipFill>
        <p:spPr>
          <a:xfrm>
            <a:off x="7496280" y="363600"/>
            <a:ext cx="846000" cy="861840"/>
          </a:xfrm>
          <a:prstGeom prst="rect">
            <a:avLst/>
          </a:prstGeom>
          <a:ln w="0">
            <a:noFill/>
          </a:ln>
        </p:spPr>
      </p:pic>
      <p:cxnSp>
        <p:nvCxnSpPr>
          <p:cNvPr id="207" name="AutoShape 8"/>
          <p:cNvCxnSpPr/>
          <p:nvPr/>
        </p:nvCxnSpPr>
        <p:spPr>
          <a:xfrm>
            <a:off x="8496000" y="1025280"/>
            <a:ext cx="648360" cy="684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208" name="Oval 9"/>
          <p:cNvSpPr/>
          <p:nvPr/>
        </p:nvSpPr>
        <p:spPr>
          <a:xfrm>
            <a:off x="8458200" y="996840"/>
            <a:ext cx="63360" cy="6372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TextBox 28"/>
          <p:cNvSpPr/>
          <p:nvPr/>
        </p:nvSpPr>
        <p:spPr>
          <a:xfrm>
            <a:off x="1338120" y="326880"/>
            <a:ext cx="4540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Calibri"/>
                <a:ea typeface="Μοντέρνα"/>
              </a:rPr>
              <a:t>РЕПУБЛИКА БЪЛГАР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Calibri"/>
                <a:ea typeface="Μοντέρνα"/>
              </a:rPr>
              <a:t>НАЦИОНАЛЕН СТАТИСТИЧЕСКИ ИНСТИТУ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12" descr=""/>
          <p:cNvPicPr/>
          <p:nvPr/>
        </p:nvPicPr>
        <p:blipFill>
          <a:blip r:embed="rId3"/>
          <a:srcRect l="0" t="0" r="80421" b="0"/>
          <a:stretch/>
        </p:blipFill>
        <p:spPr>
          <a:xfrm>
            <a:off x="-79200" y="358920"/>
            <a:ext cx="1479240" cy="804600"/>
          </a:xfrm>
          <a:prstGeom prst="rect">
            <a:avLst/>
          </a:prstGeom>
          <a:ln w="0">
            <a:noFill/>
          </a:ln>
        </p:spPr>
      </p:pic>
      <p:cxnSp>
        <p:nvCxnSpPr>
          <p:cNvPr id="211" name="AutoShape 8"/>
          <p:cNvCxnSpPr/>
          <p:nvPr/>
        </p:nvCxnSpPr>
        <p:spPr>
          <a:xfrm>
            <a:off x="0" y="6179760"/>
            <a:ext cx="2270520" cy="108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212" name="Oval 9"/>
          <p:cNvSpPr/>
          <p:nvPr/>
        </p:nvSpPr>
        <p:spPr>
          <a:xfrm>
            <a:off x="2270160" y="6148440"/>
            <a:ext cx="63360" cy="6336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13" name="AutoShape 8"/>
          <p:cNvCxnSpPr/>
          <p:nvPr/>
        </p:nvCxnSpPr>
        <p:spPr>
          <a:xfrm>
            <a:off x="6873840" y="6181200"/>
            <a:ext cx="2270520" cy="108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214" name="Oval 9"/>
          <p:cNvSpPr/>
          <p:nvPr/>
        </p:nvSpPr>
        <p:spPr>
          <a:xfrm>
            <a:off x="6815160" y="6153120"/>
            <a:ext cx="63360" cy="6336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9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3AEC3-FB2F-4F4D-862E-AFBB4B1254D2}" type="datetime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0"/>
          </p:nvPr>
        </p:nvSpPr>
        <p:spPr>
          <a:xfrm>
            <a:off x="2378160" y="5893920"/>
            <a:ext cx="4201920" cy="7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Times New Roman"/>
              </a:rPr>
              <a:t>София 1038, България, ул. „П. Волов“ №2, тел: 02/ 9857 111, </a:t>
            </a: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nsi.bg, e-mail: info@nsi.b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1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F9215-5A7E-4782-A290-92E871CF5FDC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56" name="AutoShape 8"/>
          <p:cNvCxnSpPr/>
          <p:nvPr/>
        </p:nvCxnSpPr>
        <p:spPr>
          <a:xfrm>
            <a:off x="0" y="996480"/>
            <a:ext cx="7254000" cy="3564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257" name="Oval 9"/>
          <p:cNvSpPr/>
          <p:nvPr/>
        </p:nvSpPr>
        <p:spPr>
          <a:xfrm>
            <a:off x="7253280" y="1000080"/>
            <a:ext cx="63360" cy="6372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8" name="Graphic 1" descr=""/>
          <p:cNvPicPr/>
          <p:nvPr/>
        </p:nvPicPr>
        <p:blipFill>
          <a:blip r:embed="rId2"/>
          <a:srcRect l="0" t="0" r="-264" b="-2953"/>
          <a:stretch/>
        </p:blipFill>
        <p:spPr>
          <a:xfrm>
            <a:off x="7496280" y="363600"/>
            <a:ext cx="846000" cy="861840"/>
          </a:xfrm>
          <a:prstGeom prst="rect">
            <a:avLst/>
          </a:prstGeom>
          <a:ln w="0">
            <a:noFill/>
          </a:ln>
        </p:spPr>
      </p:pic>
      <p:cxnSp>
        <p:nvCxnSpPr>
          <p:cNvPr id="259" name="AutoShape 8"/>
          <p:cNvCxnSpPr/>
          <p:nvPr/>
        </p:nvCxnSpPr>
        <p:spPr>
          <a:xfrm>
            <a:off x="8496000" y="1025280"/>
            <a:ext cx="648360" cy="684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260" name="Oval 9"/>
          <p:cNvSpPr/>
          <p:nvPr/>
        </p:nvSpPr>
        <p:spPr>
          <a:xfrm>
            <a:off x="8458200" y="996840"/>
            <a:ext cx="63360" cy="6372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TextBox 28"/>
          <p:cNvSpPr/>
          <p:nvPr/>
        </p:nvSpPr>
        <p:spPr>
          <a:xfrm>
            <a:off x="1338120" y="326880"/>
            <a:ext cx="4540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Calibri"/>
                <a:ea typeface="Μοντέρνα"/>
              </a:rPr>
              <a:t>РЕПУБЛИКА БЪЛГАР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Calibri"/>
                <a:ea typeface="Μοντέρνα"/>
              </a:rPr>
              <a:t>НАЦИОНАЛЕН СТАТИСТИЧЕСКИ ИНСТИТУ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2" name="Picture 12" descr=""/>
          <p:cNvPicPr/>
          <p:nvPr/>
        </p:nvPicPr>
        <p:blipFill>
          <a:blip r:embed="rId3"/>
          <a:srcRect l="0" t="0" r="80421" b="0"/>
          <a:stretch/>
        </p:blipFill>
        <p:spPr>
          <a:xfrm>
            <a:off x="-79200" y="358920"/>
            <a:ext cx="1479240" cy="804600"/>
          </a:xfrm>
          <a:prstGeom prst="rect">
            <a:avLst/>
          </a:prstGeom>
          <a:ln w="0">
            <a:noFill/>
          </a:ln>
        </p:spPr>
      </p:pic>
      <p:cxnSp>
        <p:nvCxnSpPr>
          <p:cNvPr id="263" name="AutoShape 8"/>
          <p:cNvCxnSpPr/>
          <p:nvPr/>
        </p:nvCxnSpPr>
        <p:spPr>
          <a:xfrm>
            <a:off x="0" y="6179760"/>
            <a:ext cx="2270520" cy="108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264" name="Oval 9"/>
          <p:cNvSpPr/>
          <p:nvPr/>
        </p:nvSpPr>
        <p:spPr>
          <a:xfrm>
            <a:off x="2270160" y="6148440"/>
            <a:ext cx="63360" cy="6336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65" name="AutoShape 8"/>
          <p:cNvCxnSpPr/>
          <p:nvPr/>
        </p:nvCxnSpPr>
        <p:spPr>
          <a:xfrm>
            <a:off x="6873840" y="6181200"/>
            <a:ext cx="2270520" cy="108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266" name="Oval 9"/>
          <p:cNvSpPr/>
          <p:nvPr/>
        </p:nvSpPr>
        <p:spPr>
          <a:xfrm>
            <a:off x="6815160" y="6153120"/>
            <a:ext cx="63360" cy="6336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80813-CB1C-4EBE-8A12-59876F1C12B7}" type="datetime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13"/>
          </p:nvPr>
        </p:nvSpPr>
        <p:spPr>
          <a:xfrm>
            <a:off x="2378160" y="5893920"/>
            <a:ext cx="4201920" cy="7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Times New Roman"/>
              </a:rPr>
              <a:t>София 1038, България, ул. „П. Волов“ №2, тел: 02/ 9857 111, </a:t>
            </a: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nsi.bg, e-mail: info@nsi.b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14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99BC7-F622-4607-B12F-7F9E295FE001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308" name="AutoShape 8"/>
          <p:cNvCxnSpPr/>
          <p:nvPr/>
        </p:nvCxnSpPr>
        <p:spPr>
          <a:xfrm>
            <a:off x="0" y="996480"/>
            <a:ext cx="7254000" cy="3564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309" name="Oval 9"/>
          <p:cNvSpPr/>
          <p:nvPr/>
        </p:nvSpPr>
        <p:spPr>
          <a:xfrm>
            <a:off x="7253280" y="1000080"/>
            <a:ext cx="63360" cy="6372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0" name="Graphic 1" descr=""/>
          <p:cNvPicPr/>
          <p:nvPr/>
        </p:nvPicPr>
        <p:blipFill>
          <a:blip r:embed="rId2"/>
          <a:srcRect l="0" t="0" r="-264" b="-2953"/>
          <a:stretch/>
        </p:blipFill>
        <p:spPr>
          <a:xfrm>
            <a:off x="7496280" y="363600"/>
            <a:ext cx="846000" cy="861840"/>
          </a:xfrm>
          <a:prstGeom prst="rect">
            <a:avLst/>
          </a:prstGeom>
          <a:ln w="0">
            <a:noFill/>
          </a:ln>
        </p:spPr>
      </p:pic>
      <p:cxnSp>
        <p:nvCxnSpPr>
          <p:cNvPr id="311" name="AutoShape 8"/>
          <p:cNvCxnSpPr/>
          <p:nvPr/>
        </p:nvCxnSpPr>
        <p:spPr>
          <a:xfrm>
            <a:off x="8496000" y="1025280"/>
            <a:ext cx="648360" cy="684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312" name="Oval 9"/>
          <p:cNvSpPr/>
          <p:nvPr/>
        </p:nvSpPr>
        <p:spPr>
          <a:xfrm>
            <a:off x="8458200" y="996840"/>
            <a:ext cx="63360" cy="6372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TextBox 28"/>
          <p:cNvSpPr/>
          <p:nvPr/>
        </p:nvSpPr>
        <p:spPr>
          <a:xfrm>
            <a:off x="1338120" y="326880"/>
            <a:ext cx="4540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Calibri"/>
                <a:ea typeface="Μοντέρνα"/>
              </a:rPr>
              <a:t>РЕПУБЛИКА БЪЛГАР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Calibri"/>
                <a:ea typeface="Μοντέρνα"/>
              </a:rPr>
              <a:t>НАЦИОНАЛЕН СТАТИСТИЧЕСКИ ИНСТИТУ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4" name="Picture 12" descr=""/>
          <p:cNvPicPr/>
          <p:nvPr/>
        </p:nvPicPr>
        <p:blipFill>
          <a:blip r:embed="rId3"/>
          <a:srcRect l="0" t="0" r="80421" b="0"/>
          <a:stretch/>
        </p:blipFill>
        <p:spPr>
          <a:xfrm>
            <a:off x="-79200" y="358920"/>
            <a:ext cx="1479240" cy="804600"/>
          </a:xfrm>
          <a:prstGeom prst="rect">
            <a:avLst/>
          </a:prstGeom>
          <a:ln w="0">
            <a:noFill/>
          </a:ln>
        </p:spPr>
      </p:pic>
      <p:cxnSp>
        <p:nvCxnSpPr>
          <p:cNvPr id="315" name="AutoShape 8"/>
          <p:cNvCxnSpPr/>
          <p:nvPr/>
        </p:nvCxnSpPr>
        <p:spPr>
          <a:xfrm>
            <a:off x="0" y="6179760"/>
            <a:ext cx="2270520" cy="108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316" name="Oval 9"/>
          <p:cNvSpPr/>
          <p:nvPr/>
        </p:nvSpPr>
        <p:spPr>
          <a:xfrm>
            <a:off x="2270160" y="6148440"/>
            <a:ext cx="63360" cy="6336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17" name="AutoShape 8"/>
          <p:cNvCxnSpPr/>
          <p:nvPr/>
        </p:nvCxnSpPr>
        <p:spPr>
          <a:xfrm>
            <a:off x="6873840" y="6181200"/>
            <a:ext cx="2270520" cy="108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318" name="Oval 9"/>
          <p:cNvSpPr/>
          <p:nvPr/>
        </p:nvSpPr>
        <p:spPr>
          <a:xfrm>
            <a:off x="6815160" y="6153120"/>
            <a:ext cx="63360" cy="6336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dt" idx="15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6EA3E-17F7-4FF7-86D4-92A84843DCE7}" type="datetime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ftr" idx="16"/>
          </p:nvPr>
        </p:nvSpPr>
        <p:spPr>
          <a:xfrm>
            <a:off x="2378160" y="5893920"/>
            <a:ext cx="4201920" cy="7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Times New Roman"/>
              </a:rPr>
              <a:t>София 1038, България, ул. „П. Волов“ №2, тел: 02/ 9857 111, </a:t>
            </a: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nsi.bg, e-mail: info@nsi.b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sldNum" idx="17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D8F71-34A4-4186-87CA-3132124ABF9B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360" name="AutoShape 8"/>
          <p:cNvCxnSpPr/>
          <p:nvPr/>
        </p:nvCxnSpPr>
        <p:spPr>
          <a:xfrm>
            <a:off x="0" y="996480"/>
            <a:ext cx="7254000" cy="3564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361" name="Oval 9"/>
          <p:cNvSpPr/>
          <p:nvPr/>
        </p:nvSpPr>
        <p:spPr>
          <a:xfrm>
            <a:off x="7253280" y="1000080"/>
            <a:ext cx="63360" cy="6372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2" name="Graphic 1" descr=""/>
          <p:cNvPicPr/>
          <p:nvPr/>
        </p:nvPicPr>
        <p:blipFill>
          <a:blip r:embed="rId2"/>
          <a:srcRect l="0" t="0" r="-264" b="-2953"/>
          <a:stretch/>
        </p:blipFill>
        <p:spPr>
          <a:xfrm>
            <a:off x="7496280" y="363600"/>
            <a:ext cx="846000" cy="861840"/>
          </a:xfrm>
          <a:prstGeom prst="rect">
            <a:avLst/>
          </a:prstGeom>
          <a:ln w="0">
            <a:noFill/>
          </a:ln>
        </p:spPr>
      </p:pic>
      <p:cxnSp>
        <p:nvCxnSpPr>
          <p:cNvPr id="363" name="AutoShape 8"/>
          <p:cNvCxnSpPr/>
          <p:nvPr/>
        </p:nvCxnSpPr>
        <p:spPr>
          <a:xfrm>
            <a:off x="8496000" y="1025280"/>
            <a:ext cx="648360" cy="684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364" name="Oval 9"/>
          <p:cNvSpPr/>
          <p:nvPr/>
        </p:nvSpPr>
        <p:spPr>
          <a:xfrm>
            <a:off x="8458200" y="996840"/>
            <a:ext cx="63360" cy="6372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TextBox 28"/>
          <p:cNvSpPr/>
          <p:nvPr/>
        </p:nvSpPr>
        <p:spPr>
          <a:xfrm>
            <a:off x="1338120" y="326880"/>
            <a:ext cx="4540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Calibri"/>
                <a:ea typeface="Μοντέρνα"/>
              </a:rPr>
              <a:t>РЕПУБЛИКА БЪЛГАР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Calibri"/>
                <a:ea typeface="Μοντέρνα"/>
              </a:rPr>
              <a:t>НАЦИОНАЛЕН СТАТИСТИЧЕСКИ ИНСТИТУ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6" name="Picture 12" descr=""/>
          <p:cNvPicPr/>
          <p:nvPr/>
        </p:nvPicPr>
        <p:blipFill>
          <a:blip r:embed="rId3"/>
          <a:srcRect l="0" t="0" r="80421" b="0"/>
          <a:stretch/>
        </p:blipFill>
        <p:spPr>
          <a:xfrm>
            <a:off x="-79200" y="358920"/>
            <a:ext cx="1479240" cy="804600"/>
          </a:xfrm>
          <a:prstGeom prst="rect">
            <a:avLst/>
          </a:prstGeom>
          <a:ln w="0">
            <a:noFill/>
          </a:ln>
        </p:spPr>
      </p:pic>
      <p:cxnSp>
        <p:nvCxnSpPr>
          <p:cNvPr id="367" name="AutoShape 8"/>
          <p:cNvCxnSpPr/>
          <p:nvPr/>
        </p:nvCxnSpPr>
        <p:spPr>
          <a:xfrm>
            <a:off x="0" y="6179760"/>
            <a:ext cx="2270520" cy="108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368" name="Oval 9"/>
          <p:cNvSpPr/>
          <p:nvPr/>
        </p:nvSpPr>
        <p:spPr>
          <a:xfrm>
            <a:off x="2270160" y="6148440"/>
            <a:ext cx="63360" cy="6336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69" name="AutoShape 8"/>
          <p:cNvCxnSpPr/>
          <p:nvPr/>
        </p:nvCxnSpPr>
        <p:spPr>
          <a:xfrm>
            <a:off x="6873840" y="6181200"/>
            <a:ext cx="2270520" cy="108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370" name="Oval 9"/>
          <p:cNvSpPr/>
          <p:nvPr/>
        </p:nvSpPr>
        <p:spPr>
          <a:xfrm>
            <a:off x="6815160" y="6153120"/>
            <a:ext cx="63360" cy="6336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dt" idx="18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706DE-FC51-4A9D-A63B-F2E69D4EEC22}" type="datetime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ftr" idx="19"/>
          </p:nvPr>
        </p:nvSpPr>
        <p:spPr>
          <a:xfrm>
            <a:off x="2378160" y="5893920"/>
            <a:ext cx="4201920" cy="7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Times New Roman"/>
              </a:rPr>
              <a:t>София 1038, България, ул. „П. Волов“ №2, тел: 02/ 9857 111, </a:t>
            </a: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nsi.bg, e-mail: info@nsi.b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sldNum" idx="20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3683F-D386-479C-B3C7-59C1F4063656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2" name="AutoShape 8"/>
          <p:cNvCxnSpPr/>
          <p:nvPr/>
        </p:nvCxnSpPr>
        <p:spPr>
          <a:xfrm>
            <a:off x="0" y="996480"/>
            <a:ext cx="7254000" cy="3564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413" name="Oval 9"/>
          <p:cNvSpPr/>
          <p:nvPr/>
        </p:nvSpPr>
        <p:spPr>
          <a:xfrm>
            <a:off x="7253280" y="1000080"/>
            <a:ext cx="63360" cy="6372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4" name="Graphic 1" descr=""/>
          <p:cNvPicPr/>
          <p:nvPr/>
        </p:nvPicPr>
        <p:blipFill>
          <a:blip r:embed="rId2"/>
          <a:srcRect l="0" t="0" r="-264" b="-2953"/>
          <a:stretch/>
        </p:blipFill>
        <p:spPr>
          <a:xfrm>
            <a:off x="7496280" y="363600"/>
            <a:ext cx="846000" cy="861840"/>
          </a:xfrm>
          <a:prstGeom prst="rect">
            <a:avLst/>
          </a:prstGeom>
          <a:ln w="0">
            <a:noFill/>
          </a:ln>
        </p:spPr>
      </p:pic>
      <p:cxnSp>
        <p:nvCxnSpPr>
          <p:cNvPr id="415" name="AutoShape 8"/>
          <p:cNvCxnSpPr/>
          <p:nvPr/>
        </p:nvCxnSpPr>
        <p:spPr>
          <a:xfrm>
            <a:off x="8496000" y="1025280"/>
            <a:ext cx="648360" cy="684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416" name="Oval 9"/>
          <p:cNvSpPr/>
          <p:nvPr/>
        </p:nvSpPr>
        <p:spPr>
          <a:xfrm>
            <a:off x="8458200" y="996840"/>
            <a:ext cx="63360" cy="6372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TextBox 28"/>
          <p:cNvSpPr/>
          <p:nvPr/>
        </p:nvSpPr>
        <p:spPr>
          <a:xfrm>
            <a:off x="1338120" y="326880"/>
            <a:ext cx="4540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Calibri"/>
                <a:ea typeface="Μοντέρνα"/>
              </a:rPr>
              <a:t>РЕПУБЛИКА БЪЛГАР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Calibri"/>
                <a:ea typeface="Μοντέρνα"/>
              </a:rPr>
              <a:t>НАЦИОНАЛЕН СТАТИСТИЧЕСКИ ИНСТИТУ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8" name="Picture 12" descr=""/>
          <p:cNvPicPr/>
          <p:nvPr/>
        </p:nvPicPr>
        <p:blipFill>
          <a:blip r:embed="rId3"/>
          <a:srcRect l="0" t="0" r="80421" b="0"/>
          <a:stretch/>
        </p:blipFill>
        <p:spPr>
          <a:xfrm>
            <a:off x="-79200" y="358920"/>
            <a:ext cx="1479240" cy="804600"/>
          </a:xfrm>
          <a:prstGeom prst="rect">
            <a:avLst/>
          </a:prstGeom>
          <a:ln w="0">
            <a:noFill/>
          </a:ln>
        </p:spPr>
      </p:pic>
      <p:cxnSp>
        <p:nvCxnSpPr>
          <p:cNvPr id="419" name="AutoShape 8"/>
          <p:cNvCxnSpPr/>
          <p:nvPr/>
        </p:nvCxnSpPr>
        <p:spPr>
          <a:xfrm>
            <a:off x="0" y="6179760"/>
            <a:ext cx="2270520" cy="108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420" name="Oval 9"/>
          <p:cNvSpPr/>
          <p:nvPr/>
        </p:nvSpPr>
        <p:spPr>
          <a:xfrm>
            <a:off x="2270160" y="6148440"/>
            <a:ext cx="63360" cy="6336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21" name="AutoShape 8"/>
          <p:cNvCxnSpPr/>
          <p:nvPr/>
        </p:nvCxnSpPr>
        <p:spPr>
          <a:xfrm>
            <a:off x="6873840" y="6181200"/>
            <a:ext cx="2270520" cy="108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422" name="Oval 9"/>
          <p:cNvSpPr/>
          <p:nvPr/>
        </p:nvSpPr>
        <p:spPr>
          <a:xfrm>
            <a:off x="6815160" y="6153120"/>
            <a:ext cx="63360" cy="6336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dt" idx="2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BB2E9-350F-4D11-BB82-E351A353F9C4}" type="datetime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 type="ftr" idx="22"/>
          </p:nvPr>
        </p:nvSpPr>
        <p:spPr>
          <a:xfrm>
            <a:off x="2378160" y="5893920"/>
            <a:ext cx="4201920" cy="7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Times New Roman"/>
              </a:rPr>
              <a:t>София 1038, България, ул. „П. Волов“ №2, тел: 02/ 9857 111, </a:t>
            </a: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nsi.bg, e-mail: info@nsi.b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 type="sldNum" idx="2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A2F1D-40E2-4AC3-AAD6-CD9959A41F14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ailkova@nsi.bg" TargetMode="External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s://www.nsi.bg/datathon2024/docs/Datathon2024_Diagea.pdf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85.xml"/><Relationship Id="rId6" Type="http://schemas.openxmlformats.org/officeDocument/2006/relationships/comments" Target="../comments/commen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28560" y="1122480"/>
            <a:ext cx="7886880" cy="1568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6fc0"/>
                </a:solidFill>
                <a:latin typeface="Arial"/>
                <a:ea typeface="Arial"/>
              </a:rPr>
              <a:t>Инициативи за повишаване на статистическата култура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31280" y="2873520"/>
            <a:ext cx="4286520" cy="30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bg-BG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bg-BG" sz="1800" spc="-1" strike="noStrike">
                <a:solidFill>
                  <a:srgbClr val="006fc0"/>
                </a:solidFill>
                <a:latin typeface="Calibri"/>
              </a:rPr>
              <a:t>Антоанета Илков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800" spc="-1" strike="noStrike">
                <a:solidFill>
                  <a:srgbClr val="006fc0"/>
                </a:solidFill>
                <a:latin typeface="Calibri"/>
              </a:rPr>
              <a:t>Директор на дирекция „Многосекторна статистика, методология и регистри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bg-BG" sz="1800" spc="-1" strike="noStrike">
                <a:solidFill>
                  <a:srgbClr val="006fc0"/>
                </a:solidFill>
                <a:latin typeface="Calibri"/>
              </a:rPr>
              <a:t>Национален статистически институ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bg-BG" sz="1800" spc="-1" strike="noStrike">
                <a:solidFill>
                  <a:srgbClr val="006fc0"/>
                </a:solidFill>
                <a:latin typeface="Calibri"/>
              </a:rPr>
              <a:t>ул. „Панайот Волов“ 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bg-BG" sz="1800" spc="-1" strike="noStrike">
                <a:solidFill>
                  <a:srgbClr val="006fc0"/>
                </a:solidFill>
                <a:latin typeface="Calibri"/>
              </a:rPr>
              <a:t>+359 2 9857 5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GB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ilkova@nsi.b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6fc0"/>
                </a:solidFill>
                <a:latin typeface="Arial"/>
                <a:ea typeface="Arial"/>
              </a:rPr>
              <a:t>12 – 14 </a:t>
            </a:r>
            <a:r>
              <a:rPr b="0" lang="bg-BG" sz="1200" spc="-1" strike="noStrike">
                <a:solidFill>
                  <a:srgbClr val="006fc0"/>
                </a:solidFill>
                <a:latin typeface="Arial"/>
                <a:ea typeface="Arial"/>
              </a:rPr>
              <a:t>ДЕКЕМВРИ 2024 г.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bg-BG" sz="1200" spc="-1" strike="noStrike">
                <a:solidFill>
                  <a:srgbClr val="006fc0"/>
                </a:solidFill>
                <a:latin typeface="Arial"/>
                <a:ea typeface="Arial"/>
              </a:rPr>
              <a:t>гр.  ХИСАР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Footer Placeholder 3"/>
          <p:cNvSpPr/>
          <p:nvPr/>
        </p:nvSpPr>
        <p:spPr>
          <a:xfrm>
            <a:off x="2481120" y="5805360"/>
            <a:ext cx="418176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Calibri"/>
              </a:rPr>
              <a:t>София 1038, България, ул. „П. Волов“ №2, тел: 02/ 9857 111,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nsi.bg, e-mail: info@nsi.b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Footer Placeholder 1"/>
          <p:cNvSpPr/>
          <p:nvPr/>
        </p:nvSpPr>
        <p:spPr>
          <a:xfrm>
            <a:off x="2378160" y="5894280"/>
            <a:ext cx="4201920" cy="7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Calibri"/>
              </a:rPr>
              <a:t>София 1038, България, ул. „П. Волов“ №2, тел: 02/ 9857 111,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nsi.bg, e-mail: info@nsi.b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Rectangle 2"/>
          <p:cNvSpPr/>
          <p:nvPr/>
        </p:nvSpPr>
        <p:spPr>
          <a:xfrm>
            <a:off x="1027080" y="1379520"/>
            <a:ext cx="717084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70c0"/>
                </a:solidFill>
                <a:latin typeface="Calibri"/>
                <a:ea typeface="Calibri"/>
              </a:rPr>
              <a:t>Победители през 2024 г. при разработването на тема „Възможности и предизвикателства пред младежкото предприемачество по статистически данни за България“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70c0"/>
                </a:solidFill>
                <a:latin typeface="Calibri"/>
                <a:ea typeface="Calibri"/>
              </a:rPr>
              <a:t>Отбор Straw hats (Сламени шапки) от 51 СУ „Елисавета Багряна“, София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70c0"/>
                </a:solidFill>
                <a:latin typeface="Calibri"/>
                <a:ea typeface="Calibri"/>
              </a:rPr>
              <a:t>Отбор  </a:t>
            </a:r>
            <a:r>
              <a:rPr b="0" lang="ru-RU" sz="1600" spc="-1" strike="noStrike" u="sng">
                <a:solidFill>
                  <a:srgbClr val="0563c1"/>
                </a:solidFill>
                <a:uFillTx/>
                <a:latin typeface="Calibri"/>
                <a:ea typeface="Calibri"/>
                <a:hlinkClick r:id="rId1"/>
              </a:rPr>
              <a:t>ДИАГЕА</a:t>
            </a:r>
            <a:r>
              <a:rPr b="0" lang="ru-RU" sz="1600" spc="-1" strike="noStrike">
                <a:solidFill>
                  <a:srgbClr val="0070c0"/>
                </a:solidFill>
                <a:latin typeface="Calibri"/>
                <a:ea typeface="Calibri"/>
              </a:rPr>
              <a:t> от Средно училище за хуманитарни науки и изкуства „Константин Преславски“, Варн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70c0"/>
                </a:solidFill>
                <a:latin typeface="Calibri"/>
                <a:ea typeface="Calibri"/>
              </a:rPr>
              <a:t>Отбор Rachinski 1 от Професионална гимназия по земеделие „Тодор Рачински“, Генерал Тошево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6" name="Picture 3" descr=""/>
          <p:cNvPicPr/>
          <p:nvPr/>
        </p:nvPicPr>
        <p:blipFill>
          <a:blip r:embed="rId2"/>
          <a:stretch/>
        </p:blipFill>
        <p:spPr>
          <a:xfrm>
            <a:off x="6580080" y="3781440"/>
            <a:ext cx="1828800" cy="16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Footer Placeholder 1"/>
          <p:cNvSpPr/>
          <p:nvPr/>
        </p:nvSpPr>
        <p:spPr>
          <a:xfrm>
            <a:off x="2378160" y="5894280"/>
            <a:ext cx="4201920" cy="7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Calibri"/>
              </a:rPr>
              <a:t>София 1038, България, ул. „П. Волов“ №2, тел: 02/ 9857 111,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nsi.bg, e-mail: info@nsi.b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Rectangle 2"/>
          <p:cNvSpPr/>
          <p:nvPr/>
        </p:nvSpPr>
        <p:spPr>
          <a:xfrm>
            <a:off x="1449360" y="2705040"/>
            <a:ext cx="6727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006fc0"/>
                </a:solidFill>
                <a:latin typeface="Calibri"/>
              </a:rPr>
              <a:t>Благодаря за вниманието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bg-BG" sz="3300" spc="-1" strike="noStrike">
                <a:solidFill>
                  <a:srgbClr val="000000"/>
                </a:solidFill>
                <a:latin typeface="Calibri Light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70c0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bg-BG" sz="2100" spc="-1" strike="noStrike">
                <a:solidFill>
                  <a:srgbClr val="0070c0"/>
                </a:solidFill>
                <a:latin typeface="Calibri"/>
              </a:rPr>
              <a:t>Европейска олимпиада по статистика (насочена към ученици от </a:t>
            </a:r>
            <a:r>
              <a:rPr b="0" lang="en-US" sz="2100" spc="-1" strike="noStrike">
                <a:solidFill>
                  <a:srgbClr val="0070c0"/>
                </a:solidFill>
                <a:latin typeface="Calibri"/>
              </a:rPr>
              <a:t>VIII</a:t>
            </a:r>
            <a:r>
              <a:rPr b="0" lang="bg-BG" sz="2100" spc="-1" strike="noStrike">
                <a:solidFill>
                  <a:srgbClr val="0070c0"/>
                </a:solidFill>
                <a:latin typeface="Calibri"/>
              </a:rPr>
              <a:t>-ми до </a:t>
            </a:r>
            <a:r>
              <a:rPr b="0" lang="en-US" sz="2100" spc="-1" strike="noStrike">
                <a:solidFill>
                  <a:srgbClr val="0070c0"/>
                </a:solidFill>
                <a:latin typeface="Calibri"/>
              </a:rPr>
              <a:t>XII</a:t>
            </a:r>
            <a:r>
              <a:rPr b="0" lang="bg-BG" sz="2100" spc="-1" strike="noStrike">
                <a:solidFill>
                  <a:srgbClr val="0070c0"/>
                </a:solidFill>
                <a:latin typeface="Calibri"/>
              </a:rPr>
              <a:t>-ти клас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70c0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bg-BG" sz="2100" spc="-1" strike="noStrike">
                <a:solidFill>
                  <a:srgbClr val="0070c0"/>
                </a:solidFill>
                <a:latin typeface="Calibri"/>
              </a:rPr>
              <a:t>Международен конкурс за статистически плакат (насочен към ученици на възраст от 9 до 18 г., както и студенти от бакалавърската степен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70c0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bg-BG" sz="2100" spc="-1" strike="noStrike">
                <a:solidFill>
                  <a:srgbClr val="0070c0"/>
                </a:solidFill>
                <a:latin typeface="Calibri"/>
              </a:rPr>
              <a:t>Дейтатон (насочен към ученици от  Х-ти до Х</a:t>
            </a:r>
            <a:r>
              <a:rPr b="0" lang="en-GB" sz="2100" spc="-1" strike="noStrike">
                <a:solidFill>
                  <a:srgbClr val="0070c0"/>
                </a:solidFill>
                <a:latin typeface="Calibri"/>
              </a:rPr>
              <a:t>II</a:t>
            </a:r>
            <a:r>
              <a:rPr b="0" lang="bg-BG" sz="2100" spc="-1" strike="noStrike">
                <a:solidFill>
                  <a:srgbClr val="0070c0"/>
                </a:solidFill>
                <a:latin typeface="Calibri"/>
              </a:rPr>
              <a:t>-ти</a:t>
            </a:r>
            <a:r>
              <a:rPr b="0" lang="en-GB" sz="21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bg-BG" sz="2100" spc="-1" strike="noStrike">
                <a:solidFill>
                  <a:srgbClr val="0070c0"/>
                </a:solidFill>
                <a:latin typeface="Calibri"/>
              </a:rPr>
              <a:t>клас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70c0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bg-BG" sz="2100" spc="-1" strike="noStrike">
                <a:solidFill>
                  <a:srgbClr val="0070c0"/>
                </a:solidFill>
                <a:latin typeface="Calibri"/>
              </a:rPr>
              <a:t>Конкурс за статистическо есе (насочен към ученици от </a:t>
            </a:r>
            <a:r>
              <a:rPr b="0" lang="en-US" sz="2100" spc="-1" strike="noStrike">
                <a:solidFill>
                  <a:srgbClr val="0070c0"/>
                </a:solidFill>
                <a:latin typeface="Calibri"/>
              </a:rPr>
              <a:t>IX</a:t>
            </a:r>
            <a:r>
              <a:rPr b="0" lang="bg-BG" sz="2100" spc="-1" strike="noStrike">
                <a:solidFill>
                  <a:srgbClr val="0070c0"/>
                </a:solidFill>
                <a:latin typeface="Calibri"/>
              </a:rPr>
              <a:t>-ти до</a:t>
            </a:r>
            <a:r>
              <a:rPr b="0" lang="en-US" sz="2100" spc="-1" strike="noStrike">
                <a:solidFill>
                  <a:srgbClr val="0070c0"/>
                </a:solidFill>
                <a:latin typeface="Calibri"/>
              </a:rPr>
              <a:t> XII</a:t>
            </a:r>
            <a:r>
              <a:rPr b="0" lang="bg-BG" sz="2100" spc="-1" strike="noStrike">
                <a:solidFill>
                  <a:srgbClr val="0070c0"/>
                </a:solidFill>
                <a:latin typeface="Calibri"/>
              </a:rPr>
              <a:t>-ти клас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Footer Placeholder 3"/>
          <p:cNvSpPr/>
          <p:nvPr/>
        </p:nvSpPr>
        <p:spPr>
          <a:xfrm>
            <a:off x="2378160" y="5894280"/>
            <a:ext cx="4201920" cy="7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Calibri"/>
              </a:rPr>
              <a:t>София 1038, България, ул. „П. Волов“ №2, тел: 02/ 9857 111,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nsi.bg, e-mail: info@nsi.b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Footer Placeholder 3"/>
          <p:cNvSpPr/>
          <p:nvPr/>
        </p:nvSpPr>
        <p:spPr>
          <a:xfrm>
            <a:off x="2481120" y="6153120"/>
            <a:ext cx="418176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Calibri"/>
              </a:rPr>
              <a:t>София 1038, България, ул. „П. Волов“ №2, тел: 02/ 9857 111,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nsi.bg, e-mail: info@nsi.b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TextBox 6"/>
          <p:cNvSpPr/>
          <p:nvPr/>
        </p:nvSpPr>
        <p:spPr>
          <a:xfrm>
            <a:off x="728640" y="1720800"/>
            <a:ext cx="7601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70c0"/>
                </a:solidFill>
                <a:latin typeface="Calibri"/>
              </a:rPr>
              <a:t>Конкурс за статистическа инфографика (регионална, Сливен, насочена към ученици от гимназиалния курс) 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70c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TextBox 7"/>
          <p:cNvSpPr/>
          <p:nvPr/>
        </p:nvSpPr>
        <p:spPr>
          <a:xfrm>
            <a:off x="728640" y="2668680"/>
            <a:ext cx="7756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70c0"/>
                </a:solidFill>
                <a:latin typeface="Calibri"/>
              </a:rPr>
              <a:t>Статистически изложби – София, Благоевград, Бургас, Варна, Велико Търново, Враца, Пловдив (насочени към всички възрастови</a:t>
            </a:r>
            <a:r>
              <a:rPr b="0" lang="en-US" sz="18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bg-BG" sz="1800" spc="-1" strike="noStrike">
                <a:solidFill>
                  <a:srgbClr val="0070c0"/>
                </a:solidFill>
                <a:latin typeface="Calibri"/>
              </a:rPr>
              <a:t>групи)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70c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TextBox 8"/>
          <p:cNvSpPr/>
          <p:nvPr/>
        </p:nvSpPr>
        <p:spPr>
          <a:xfrm>
            <a:off x="728640" y="3618000"/>
            <a:ext cx="7601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70c0"/>
                </a:solidFill>
                <a:latin typeface="Calibri"/>
              </a:rPr>
              <a:t>Списание „Статистика“ – тематични разработки по статистически задания (насочена към ученици от гимназиалния курс)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70c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TextBox 9"/>
          <p:cNvSpPr/>
          <p:nvPr/>
        </p:nvSpPr>
        <p:spPr>
          <a:xfrm>
            <a:off x="728640" y="4567320"/>
            <a:ext cx="7601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70c0"/>
                </a:solidFill>
                <a:latin typeface="Calibri"/>
              </a:rPr>
              <a:t>Разработване на визуализации за социалните медии (насочена към ученици от гимназиалния кур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Footer Placeholder 1"/>
          <p:cNvSpPr/>
          <p:nvPr/>
        </p:nvSpPr>
        <p:spPr>
          <a:xfrm>
            <a:off x="2378160" y="5894280"/>
            <a:ext cx="4201920" cy="7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Calibri"/>
              </a:rPr>
              <a:t>София 1038, България, ул. „П. Волов“ №2, тел: 02/ 9857 111,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nsi.bg, e-mail: info@nsi.b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2" name="Picture 2" descr=""/>
          <p:cNvPicPr/>
          <p:nvPr/>
        </p:nvPicPr>
        <p:blipFill>
          <a:blip r:embed="rId1"/>
          <a:stretch/>
        </p:blipFill>
        <p:spPr>
          <a:xfrm>
            <a:off x="361800" y="1033560"/>
            <a:ext cx="1578240" cy="868320"/>
          </a:xfrm>
          <a:prstGeom prst="rect">
            <a:avLst/>
          </a:prstGeom>
          <a:ln w="0">
            <a:noFill/>
          </a:ln>
        </p:spPr>
      </p:pic>
      <p:sp>
        <p:nvSpPr>
          <p:cNvPr id="633" name="Rectangle 7"/>
          <p:cNvSpPr/>
          <p:nvPr/>
        </p:nvSpPr>
        <p:spPr>
          <a:xfrm>
            <a:off x="361800" y="2016000"/>
            <a:ext cx="6650280" cy="40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6fc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bg-BG" sz="2000" spc="-1" strike="noStrike">
                <a:solidFill>
                  <a:srgbClr val="006fc0"/>
                </a:solidFill>
                <a:latin typeface="Calibri"/>
              </a:rPr>
              <a:t>Състезанието е отборно – учител ментор и ученици от едно и също училищ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6fc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bg-BG" sz="2000" spc="-1" strike="noStrike">
                <a:solidFill>
                  <a:srgbClr val="006fc0"/>
                </a:solidFill>
                <a:latin typeface="Calibri"/>
              </a:rPr>
              <a:t>Две категории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6fc0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000" spc="-1" strike="noStrike">
                <a:solidFill>
                  <a:srgbClr val="006fc0"/>
                </a:solidFill>
                <a:latin typeface="Calibri"/>
              </a:rPr>
              <a:t>Категория А: ученици от Х -ХII кла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6fc0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000" spc="-1" strike="noStrike">
                <a:solidFill>
                  <a:srgbClr val="006fc0"/>
                </a:solidFill>
                <a:latin typeface="Calibri"/>
              </a:rPr>
              <a:t>Категория Б: ученици от VIII -IX кла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6fc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000" spc="-1" strike="noStrike">
                <a:solidFill>
                  <a:srgbClr val="006fc0"/>
                </a:solidFill>
                <a:latin typeface="Calibri"/>
              </a:rPr>
              <a:t>За да се стигне до Европейския кръг - три етап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6fc0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000" spc="-1" strike="noStrike">
                <a:solidFill>
                  <a:srgbClr val="006fc0"/>
                </a:solidFill>
                <a:latin typeface="Calibri"/>
              </a:rPr>
              <a:t>Етап 1: Тест -период на провеждане -23 дни през януари 2025 г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6fc0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000" spc="-1" strike="noStrike">
                <a:solidFill>
                  <a:srgbClr val="006fc0"/>
                </a:solidFill>
                <a:latin typeface="Calibri"/>
              </a:rPr>
              <a:t>Етап 2: Анализ на статистически данни (презентация) -период на провеждане -28 дни през февруари 2025 г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6fc0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000" spc="-1" strike="noStrike">
                <a:solidFill>
                  <a:srgbClr val="006fc0"/>
                </a:solidFill>
                <a:latin typeface="Calibri"/>
              </a:rPr>
              <a:t>Етап 3</a:t>
            </a:r>
            <a:r>
              <a:rPr b="1" lang="ru-RU" sz="2000" spc="-1" strike="noStrike">
                <a:solidFill>
                  <a:srgbClr val="006fc0"/>
                </a:solidFill>
                <a:latin typeface="Calibri"/>
              </a:rPr>
              <a:t>: </a:t>
            </a:r>
            <a:r>
              <a:rPr b="0" lang="ru-RU" sz="2000" spc="-1" strike="noStrike">
                <a:solidFill>
                  <a:srgbClr val="006fc0"/>
                </a:solidFill>
                <a:latin typeface="Calibri"/>
              </a:rPr>
              <a:t>Публичен кръг за участие в Европейската фаза на статистическата олимпиада – 12 април 2025 г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TextBox 5"/>
          <p:cNvSpPr/>
          <p:nvPr/>
        </p:nvSpPr>
        <p:spPr>
          <a:xfrm>
            <a:off x="2378160" y="1144440"/>
            <a:ext cx="366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5" name="Picture 2" descr=""/>
          <p:cNvPicPr/>
          <p:nvPr/>
        </p:nvPicPr>
        <p:blipFill>
          <a:blip r:embed="rId2"/>
          <a:stretch/>
        </p:blipFill>
        <p:spPr>
          <a:xfrm>
            <a:off x="2378160" y="1039680"/>
            <a:ext cx="3449520" cy="1036800"/>
          </a:xfrm>
          <a:prstGeom prst="rect">
            <a:avLst/>
          </a:prstGeom>
          <a:ln w="0">
            <a:noFill/>
          </a:ln>
        </p:spPr>
      </p:pic>
      <p:pic>
        <p:nvPicPr>
          <p:cNvPr id="636" name="Picture 3" descr=""/>
          <p:cNvPicPr/>
          <p:nvPr/>
        </p:nvPicPr>
        <p:blipFill>
          <a:blip r:embed="rId3"/>
          <a:stretch/>
        </p:blipFill>
        <p:spPr>
          <a:xfrm>
            <a:off x="6842160" y="5835600"/>
            <a:ext cx="2185920" cy="316080"/>
          </a:xfrm>
          <a:prstGeom prst="rect">
            <a:avLst/>
          </a:prstGeom>
          <a:ln w="0">
            <a:noFill/>
          </a:ln>
        </p:spPr>
      </p:pic>
      <p:pic>
        <p:nvPicPr>
          <p:cNvPr id="637" name="Picture 2" descr=""/>
          <p:cNvPicPr/>
          <p:nvPr/>
        </p:nvPicPr>
        <p:blipFill>
          <a:blip r:embed="rId4"/>
          <a:stretch/>
        </p:blipFill>
        <p:spPr>
          <a:xfrm>
            <a:off x="6853320" y="1557360"/>
            <a:ext cx="19810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Footer Placeholder 1"/>
          <p:cNvSpPr/>
          <p:nvPr/>
        </p:nvSpPr>
        <p:spPr>
          <a:xfrm>
            <a:off x="2378160" y="5894280"/>
            <a:ext cx="4201920" cy="7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Calibri"/>
              </a:rPr>
              <a:t>София 1038, България, ул. „П. Волов“ №2, тел: 02/ 9857 111,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nsi.bg, e-mail: info@nsi.b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Rectangle 2"/>
          <p:cNvSpPr/>
          <p:nvPr/>
        </p:nvSpPr>
        <p:spPr>
          <a:xfrm>
            <a:off x="1042920" y="1422360"/>
            <a:ext cx="7721640" cy="634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fc0"/>
                </a:solidFill>
                <a:latin typeface="Calibri"/>
              </a:rPr>
              <a:t>В двете категории -</a:t>
            </a:r>
            <a:r>
              <a:rPr b="1" lang="ru-RU" sz="2400" spc="-1" strike="noStrike">
                <a:solidFill>
                  <a:srgbClr val="006fc0"/>
                </a:solidFill>
                <a:latin typeface="Calibri"/>
              </a:rPr>
              <a:t>първите пет класирани отбор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6fc0"/>
                </a:solidFill>
                <a:latin typeface="Calibri"/>
              </a:rPr>
              <a:t>Задачат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fc0"/>
                </a:solidFill>
                <a:latin typeface="Calibri"/>
              </a:rPr>
              <a:t>Да се подготви и защити </a:t>
            </a:r>
            <a:r>
              <a:rPr b="1" lang="ru-RU" sz="1600" spc="-1" strike="noStrike">
                <a:solidFill>
                  <a:srgbClr val="006fc0"/>
                </a:solidFill>
                <a:latin typeface="Calibri"/>
              </a:rPr>
              <a:t>ИДЕЕН ПРОЕКТ </a:t>
            </a:r>
            <a:r>
              <a:rPr b="0" lang="ru-RU" sz="1600" spc="-1" strike="noStrike">
                <a:solidFill>
                  <a:srgbClr val="006fc0"/>
                </a:solidFill>
                <a:latin typeface="Calibri"/>
              </a:rPr>
              <a:t>за двуминутен видеоклип по предварително зададена тема и </a:t>
            </a:r>
            <a:r>
              <a:rPr b="1" lang="ru-RU" sz="1600" spc="-1" strike="noStrike">
                <a:solidFill>
                  <a:srgbClr val="006fc0"/>
                </a:solidFill>
                <a:latin typeface="Calibri"/>
              </a:rPr>
              <a:t>ПРЕДСТАВЯНЕ НА ОТБОР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6fc0"/>
                </a:solidFill>
                <a:latin typeface="Calibri"/>
              </a:rPr>
              <a:t>Гласуване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6f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fc0"/>
                </a:solidFill>
                <a:latin typeface="Calibri"/>
              </a:rPr>
              <a:t>онлайн гласуване на страницата на НСИ -10 дни – 38 785 вот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6f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fc0"/>
                </a:solidFill>
                <a:latin typeface="Calibri"/>
              </a:rPr>
              <a:t>оценяване от 4 членно жур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fc0"/>
                </a:solidFill>
                <a:latin typeface="Calibri"/>
              </a:rPr>
              <a:t>Церемония по награждаване на победителите в националния кръг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0" name="Picture 3" descr=""/>
          <p:cNvPicPr/>
          <p:nvPr/>
        </p:nvPicPr>
        <p:blipFill>
          <a:blip r:embed="rId1"/>
          <a:stretch/>
        </p:blipFill>
        <p:spPr>
          <a:xfrm>
            <a:off x="623880" y="1146240"/>
            <a:ext cx="2360520" cy="1298520"/>
          </a:xfrm>
          <a:prstGeom prst="rect">
            <a:avLst/>
          </a:prstGeom>
          <a:ln w="0">
            <a:noFill/>
          </a:ln>
        </p:spPr>
      </p:pic>
      <p:pic>
        <p:nvPicPr>
          <p:cNvPr id="641" name="Picture 3" descr=""/>
          <p:cNvPicPr/>
          <p:nvPr/>
        </p:nvPicPr>
        <p:blipFill>
          <a:blip r:embed="rId2"/>
          <a:stretch/>
        </p:blipFill>
        <p:spPr>
          <a:xfrm>
            <a:off x="6083280" y="1247760"/>
            <a:ext cx="1495440" cy="13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Footer Placeholder 1"/>
          <p:cNvSpPr/>
          <p:nvPr/>
        </p:nvSpPr>
        <p:spPr>
          <a:xfrm>
            <a:off x="2378160" y="5894280"/>
            <a:ext cx="4201920" cy="7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Calibri"/>
              </a:rPr>
              <a:t>София 1038, България, ул. „П. Волов“ №2, тел: 02/ 9857 111,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nsi.bg, e-mail: info@nsi.b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Rectangle 2"/>
          <p:cNvSpPr/>
          <p:nvPr/>
        </p:nvSpPr>
        <p:spPr>
          <a:xfrm>
            <a:off x="681120" y="1081080"/>
            <a:ext cx="7738920" cy="58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300" spc="-1" strike="noStrike">
                <a:solidFill>
                  <a:srgbClr val="006fc0"/>
                </a:solidFill>
                <a:latin typeface="Calibri"/>
              </a:rPr>
              <a:t>Резултати от ЕОС 2024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fc0"/>
                </a:solidFill>
                <a:latin typeface="Calibri"/>
              </a:rPr>
              <a:t>Участвали – 523 отбора от 148 образователни центрове в България (214 –категория А, и 309 –категория Б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6fc0"/>
                </a:solidFill>
                <a:latin typeface="Calibri"/>
              </a:rPr>
              <a:t>Победители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6fc0"/>
                </a:solidFill>
                <a:latin typeface="Calibri"/>
              </a:rPr>
              <a:t>Категория А</a:t>
            </a:r>
            <a:r>
              <a:rPr b="0" lang="bg-BG" sz="1800" spc="-1" strike="noStrike">
                <a:solidFill>
                  <a:srgbClr val="006fc0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fc0"/>
                </a:solidFill>
                <a:latin typeface="Calibri"/>
              </a:rPr>
              <a:t>1.Отбор „</a:t>
            </a:r>
            <a:r>
              <a:rPr b="0" lang="en-GB" sz="1800" spc="-1" strike="noStrike">
                <a:solidFill>
                  <a:srgbClr val="006fc0"/>
                </a:solidFill>
                <a:latin typeface="Calibri"/>
              </a:rPr>
              <a:t>COFFEENG </a:t>
            </a:r>
            <a:r>
              <a:rPr b="0" lang="ru-RU" sz="1800" spc="-1" strike="noStrike">
                <a:solidFill>
                  <a:srgbClr val="006fc0"/>
                </a:solidFill>
                <a:latin typeface="Calibri"/>
              </a:rPr>
              <a:t>“ от 2 АЕГ "Томас Джеферсън, София с 99.00 точк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fc0"/>
                </a:solidFill>
                <a:latin typeface="Calibri"/>
              </a:rPr>
              <a:t>2.Отбор „ФЕНИКС “ от ПГИ "Иван Илиев Благоевград с 97.75 точк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fc0"/>
                </a:solidFill>
                <a:latin typeface="Calibri"/>
              </a:rPr>
              <a:t>3. Отбор „</a:t>
            </a:r>
            <a:r>
              <a:rPr b="0" lang="en-GB" sz="1800" spc="-1" strike="noStrike">
                <a:solidFill>
                  <a:srgbClr val="006fc0"/>
                </a:solidFill>
                <a:latin typeface="Calibri"/>
              </a:rPr>
              <a:t>BRILLIANCE“  - </a:t>
            </a:r>
            <a:r>
              <a:rPr b="0" lang="ru-RU" sz="1800" spc="-1" strike="noStrike">
                <a:solidFill>
                  <a:srgbClr val="006fc0"/>
                </a:solidFill>
                <a:latin typeface="Calibri"/>
              </a:rPr>
              <a:t>МГ, Русе, 97.59 точк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6fc0"/>
                </a:solidFill>
                <a:latin typeface="Calibri"/>
              </a:rPr>
              <a:t>Категория Б</a:t>
            </a:r>
            <a:r>
              <a:rPr b="0" lang="bg-BG" sz="1800" spc="-1" strike="noStrike">
                <a:solidFill>
                  <a:srgbClr val="006fc0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fc0"/>
                </a:solidFill>
                <a:latin typeface="Calibri"/>
              </a:rPr>
              <a:t>1. Отбор „ </a:t>
            </a:r>
            <a:r>
              <a:rPr b="0" lang="en-GB" sz="1800" spc="-1" strike="noStrike">
                <a:solidFill>
                  <a:srgbClr val="006fc0"/>
                </a:solidFill>
                <a:latin typeface="Calibri"/>
              </a:rPr>
              <a:t>IM_PRO“ – </a:t>
            </a:r>
            <a:r>
              <a:rPr b="0" lang="ru-RU" sz="1800" spc="-1" strike="noStrike">
                <a:solidFill>
                  <a:srgbClr val="006fc0"/>
                </a:solidFill>
                <a:latin typeface="Calibri"/>
              </a:rPr>
              <a:t>ПГИМ , Пазарджик, 100.00 точк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fc0"/>
                </a:solidFill>
                <a:latin typeface="Calibri"/>
              </a:rPr>
              <a:t>2. Отбор „</a:t>
            </a:r>
            <a:r>
              <a:rPr b="0" lang="en-GB" sz="1800" spc="-1" strike="noStrike">
                <a:solidFill>
                  <a:srgbClr val="006fc0"/>
                </a:solidFill>
                <a:latin typeface="Calibri"/>
              </a:rPr>
              <a:t>DEIMOS“ – </a:t>
            </a:r>
            <a:r>
              <a:rPr b="0" lang="ru-RU" sz="1800" spc="-1" strike="noStrike">
                <a:solidFill>
                  <a:srgbClr val="006fc0"/>
                </a:solidFill>
                <a:latin typeface="Calibri"/>
              </a:rPr>
              <a:t>ПМГ, Добрич, 99.00 точк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fc0"/>
                </a:solidFill>
                <a:latin typeface="Calibri"/>
              </a:rPr>
              <a:t>3. Отбор „</a:t>
            </a:r>
            <a:r>
              <a:rPr b="0" lang="en-GB" sz="1800" spc="-1" strike="noStrike">
                <a:solidFill>
                  <a:srgbClr val="006fc0"/>
                </a:solidFill>
                <a:latin typeface="Calibri"/>
              </a:rPr>
              <a:t>PRIMA“ – </a:t>
            </a:r>
            <a:r>
              <a:rPr b="0" lang="ru-RU" sz="1800" spc="-1" strike="noStrike">
                <a:solidFill>
                  <a:srgbClr val="006fc0"/>
                </a:solidFill>
                <a:latin typeface="Calibri"/>
              </a:rPr>
              <a:t>ВТГ „Г.С.Раковски“, Варна, 98.75 точк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fc0"/>
                </a:solidFill>
                <a:latin typeface="Calibri"/>
              </a:rPr>
              <a:t>Отбор „ </a:t>
            </a:r>
            <a:r>
              <a:rPr b="0" lang="en-GB" sz="1800" spc="-1" strike="noStrike">
                <a:solidFill>
                  <a:srgbClr val="006fc0"/>
                </a:solidFill>
                <a:latin typeface="Calibri"/>
              </a:rPr>
              <a:t>IM_PRO“ – </a:t>
            </a:r>
            <a:r>
              <a:rPr b="0" lang="ru-RU" sz="1800" spc="-1" strike="noStrike">
                <a:solidFill>
                  <a:srgbClr val="006fc0"/>
                </a:solidFill>
                <a:latin typeface="Calibri"/>
              </a:rPr>
              <a:t>ПГИМ , Пазарджик, спечели четвърто място в Европейския кръг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4" name="Picture 3" descr=""/>
          <p:cNvPicPr/>
          <p:nvPr/>
        </p:nvPicPr>
        <p:blipFill>
          <a:blip r:embed="rId1"/>
          <a:stretch/>
        </p:blipFill>
        <p:spPr>
          <a:xfrm>
            <a:off x="7218360" y="4349880"/>
            <a:ext cx="162396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Footer Placeholder 1"/>
          <p:cNvSpPr/>
          <p:nvPr/>
        </p:nvSpPr>
        <p:spPr>
          <a:xfrm>
            <a:off x="2378160" y="5894280"/>
            <a:ext cx="4201920" cy="7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Calibri"/>
              </a:rPr>
              <a:t>София 1038, България, ул. „П. Волов“ №2, тел: 02/ 9857 111,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nsi.bg, e-mail: info@nsi.b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Rectangle 3"/>
          <p:cNvSpPr/>
          <p:nvPr/>
        </p:nvSpPr>
        <p:spPr>
          <a:xfrm>
            <a:off x="449280" y="612720"/>
            <a:ext cx="82375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</a:rPr>
              <a:t>DATATHON - НСИ 202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</a:rPr>
              <a:t>Състезанието се проведе за втори пъ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</a:rPr>
              <a:t>Цел да насърчи учениците и менторите, които не с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</a:rPr>
              <a:t>участвали в олимпиадата и конкурса за плакат, или пъ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</a:rPr>
              <a:t>не са достигнали до призовите места в двете състезания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</a:rPr>
              <a:t>да се включат и да опитат възможностите си пр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</a:rPr>
              <a:t>изработването на решение върху определена баз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</a:rPr>
              <a:t>данни. Отново се набляга на екипната работа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</a:rPr>
              <a:t>аналитичното мислене в група и визуализацията 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</a:rPr>
              <a:t>предлагания краен продукт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7" name="Picture 2" descr=""/>
          <p:cNvPicPr/>
          <p:nvPr/>
        </p:nvPicPr>
        <p:blipFill>
          <a:blip r:embed="rId1"/>
          <a:stretch/>
        </p:blipFill>
        <p:spPr>
          <a:xfrm>
            <a:off x="6469200" y="3789360"/>
            <a:ext cx="182880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Footer Placeholder 1"/>
          <p:cNvSpPr/>
          <p:nvPr/>
        </p:nvSpPr>
        <p:spPr>
          <a:xfrm>
            <a:off x="2378160" y="5894280"/>
            <a:ext cx="4201920" cy="7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Calibri"/>
              </a:rPr>
              <a:t>София 1038, България, ул. „П. Волов“ №2, тел: 02/ 9857 111,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nsi.bg, e-mail: info@nsi.b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Rectangle 2"/>
          <p:cNvSpPr/>
          <p:nvPr/>
        </p:nvSpPr>
        <p:spPr>
          <a:xfrm>
            <a:off x="284040" y="174600"/>
            <a:ext cx="8583840" cy="45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300" spc="-1" strike="noStrike">
                <a:solidFill>
                  <a:srgbClr val="006fc0"/>
                </a:solidFill>
                <a:latin typeface="Calibri"/>
              </a:rPr>
              <a:t>Календар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Период на регистрация:</a:t>
            </a:r>
            <a:r>
              <a:rPr b="0" lang="ru-RU" sz="2400" spc="-1" strike="noStrike">
                <a:solidFill>
                  <a:srgbClr val="0070c0"/>
                </a:solidFill>
                <a:latin typeface="Calibri"/>
              </a:rPr>
              <a:t> от 5 до 19 март 2024 годин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Период за провеждане на първия кръг:</a:t>
            </a:r>
            <a:r>
              <a:rPr b="0" lang="ru-RU" sz="2400" spc="-1" strike="noStrike">
                <a:solidFill>
                  <a:srgbClr val="0070c0"/>
                </a:solidFill>
                <a:latin typeface="Calibri"/>
              </a:rPr>
              <a:t> от 20 март до 8 април 2024 годин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Публикуване на резултатите от първия етап:</a:t>
            </a:r>
            <a:r>
              <a:rPr b="0" lang="ru-RU" sz="2400" spc="-1" strike="noStrike">
                <a:solidFill>
                  <a:srgbClr val="0070c0"/>
                </a:solidFill>
                <a:latin typeface="Calibri"/>
              </a:rPr>
              <a:t> 15 април 2024 годин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Провеждане на втория етап:</a:t>
            </a:r>
            <a:r>
              <a:rPr b="0" lang="ru-RU" sz="2400" spc="-1" strike="noStrike">
                <a:solidFill>
                  <a:srgbClr val="0070c0"/>
                </a:solidFill>
                <a:latin typeface="Calibri"/>
              </a:rPr>
              <a:t> от 18 до 20 април 2024 годин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Обявяване на победителите и награждаване:</a:t>
            </a:r>
            <a:r>
              <a:rPr b="0" lang="ru-RU" sz="2400" spc="-1" strike="noStrike">
                <a:solidFill>
                  <a:srgbClr val="0070c0"/>
                </a:solidFill>
                <a:latin typeface="Calibri"/>
              </a:rPr>
              <a:t> 20 април 2024 годин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0" name="Picture 2" descr=""/>
          <p:cNvPicPr/>
          <p:nvPr/>
        </p:nvPicPr>
        <p:blipFill>
          <a:blip r:embed="rId1"/>
          <a:stretch/>
        </p:blipFill>
        <p:spPr>
          <a:xfrm>
            <a:off x="6883560" y="4398840"/>
            <a:ext cx="1657080" cy="14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Footer Placeholder 1"/>
          <p:cNvSpPr/>
          <p:nvPr/>
        </p:nvSpPr>
        <p:spPr>
          <a:xfrm>
            <a:off x="2378160" y="5894280"/>
            <a:ext cx="4201920" cy="7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Calibri"/>
              </a:rPr>
              <a:t>София 1038, България, ул. „П. Волов“ №2, тел: 02/ 9857 111,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nsi.bg, e-mail: info@nsi.b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Rectangle 2"/>
          <p:cNvSpPr/>
          <p:nvPr/>
        </p:nvSpPr>
        <p:spPr>
          <a:xfrm>
            <a:off x="241200" y="1282680"/>
            <a:ext cx="8902800" cy="29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300" spc="-1" strike="noStrike">
                <a:solidFill>
                  <a:srgbClr val="006fc0"/>
                </a:solidFill>
                <a:latin typeface="Calibri"/>
              </a:rPr>
              <a:t>Регламент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6f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fc0"/>
                </a:solidFill>
                <a:latin typeface="Calibri"/>
              </a:rPr>
              <a:t>Всяко училище имаше право да регистрира до 2 отбор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6f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fc0"/>
                </a:solidFill>
                <a:latin typeface="Calibri"/>
              </a:rPr>
              <a:t>Всеки отбор включваше от 1 до 3-ма ученика и 1 менто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6f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fc0"/>
                </a:solidFill>
                <a:latin typeface="Calibri"/>
              </a:rPr>
              <a:t>Всеки ментор имаше право да ръководи само един отбо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6f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fc0"/>
                </a:solidFill>
                <a:latin typeface="Calibri"/>
              </a:rPr>
              <a:t>Менторите регистрираха отборите на сайта на състезаниет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6f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fc0"/>
                </a:solidFill>
                <a:latin typeface="Calibri"/>
              </a:rPr>
              <a:t>Участниците в първия етап получиха грамоти за успешно представян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6f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fc0"/>
                </a:solidFill>
                <a:latin typeface="Calibri"/>
              </a:rPr>
              <a:t>Финалистите получиха грамота и парична наград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3" name="Picture 3" descr=""/>
          <p:cNvPicPr/>
          <p:nvPr/>
        </p:nvPicPr>
        <p:blipFill>
          <a:blip r:embed="rId1"/>
          <a:stretch/>
        </p:blipFill>
        <p:spPr>
          <a:xfrm>
            <a:off x="6840360" y="4054320"/>
            <a:ext cx="182880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07T14:39:36Z</dcterms:created>
  <dc:creator>Kostadin Georgiev</dc:creator>
  <dc:description/>
  <dc:language>en-US</dc:language>
  <cp:lastModifiedBy>Natasha Petrova-Marinova</cp:lastModifiedBy>
  <dcterms:modified xsi:type="dcterms:W3CDTF">2024-12-11T13:28:42Z</dcterms:modified>
  <cp:revision>37</cp:revision>
  <dc:subject/>
  <dc:title>PowerPoint Presentation</dc:title>
</cp:coreProperties>
</file>