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0E449E-B8CC-4EDB-95AD-6FF61B0D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ABDEC7-9420-406D-9D63-4BD42992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AA73EF-2EDA-4EFA-A83E-2BC87157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E9735F-0D5D-4464-8ECD-1B2D7F33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39C6BC-8338-4D09-8831-C3562DF8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BF51BB-F3DD-4695-B97A-F7DEF629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E51046-4867-48DC-B0FD-9EF0657C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EDAC90-A0C9-4F04-8EF3-EC166F65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70F4DB-B048-4BA1-96BE-A2231C5E2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FA8B18-AC38-4CC3-AA8E-558A3228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F9EE75-126F-4E98-9E12-4D694C38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40F3C1-B494-489F-989E-9274F921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55C96D-3349-4A89-8670-E48A8436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039015-0128-4FFB-9B40-AE100B26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520BB3-36A7-449B-8CA5-13F5FF92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90EED1-7334-4A1A-B87F-A08CC77F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A3980F-226A-4C5D-917D-B63623ED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833EB8-95E6-4BDF-B752-50ACEA21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3A8EA0-AFC1-4155-AE25-3257E1B5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BAB500-8504-402C-8309-D92637170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E4CB4C-0368-49FC-AB78-669758B4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36AC60-406E-45E0-BF67-F15C7A6B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ECBB95-468E-452E-8F3C-7FF92BA5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5A49DB-A4C7-469F-9E4E-638E9146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3BE6C0-049D-4266-976C-48D47800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EC9027-2251-4BCF-885C-7B7C0E6E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E2F93F-024B-40CB-AC48-EC25C161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8D82F1-59F0-47B1-BBDC-4A609B72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7BC11F-7EFC-4A95-98F1-28B69F46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670984-9089-442C-B98C-99B40C67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78C387-EB53-48EF-A213-D6B2C44E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2C0ADC-6209-4276-BCBB-5DEFAA2F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A7267D-6A70-4887-AE28-643794DC4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BD4707-F536-44C4-9C20-E47FCDCF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8EE747-9092-4921-B322-2B278DB3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CA6937-7F9D-48FE-A84C-E00E9E5B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92B55C-1BA1-4854-9441-5A59CD7E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BD7E7F-DF5B-4F8D-862C-D29E00DD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C4928D-ECA1-4172-B522-8AC01506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BB219F-A1F4-4EA6-B5E4-F517BC7A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5885D0-EBED-4B7C-B91B-AE5984C8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CFC808-7598-4AD0-977B-688DA6A3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1FF482-E25C-4610-B445-816BB84E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4BE5A3-8F45-4C88-AB9E-26151A330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6EAEF3-56F9-47C5-9A19-4EC005C94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56FB4-0AD9-44F3-9FC3-ACE325A1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4261A-A1D9-4FBE-9DE0-D44AE211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3ACDC-7267-4BA7-8935-C0A2F601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DE9B9-EB42-48E3-8D3C-CC627521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10689-2A6D-476D-9ED6-5767A0EB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F8005-7918-474E-957A-C9605FCC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B02B8-B0B5-4AE2-A70D-267D8F9F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3ACDD-4A49-4C16-8B59-A75DDA80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71F64-94D3-4851-9DA3-86E9F50C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A2F13-21FF-47BC-826F-0475E50D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B665D-A54C-4450-8730-3270A6C9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C9155-8472-4686-AA78-CFA9B064F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31A95A-9919-43E2-87EC-E97A29D6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F5DECE-30C5-48FE-BDC4-5C4DEDFC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15A2CE-63BD-4021-91C6-72C4E706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176D05-3935-4955-83CB-F8AE756C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8BE11-4210-438E-8D33-F581AE21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73F976-ACA4-4B45-B7E1-AB028787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64A830-9FE5-4634-B1ED-C35F04A3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AF0DA5-A6F5-4864-9D89-922E345F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645E3E-6568-4C70-8278-9E5E2B13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CBEFF6-1F60-4B9E-94E1-6883E66D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9CB348-F753-43E7-9DFA-D4B734F8E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3BD01C-E482-45CF-B804-E5218CE43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463692-3ED0-4AC8-BF1D-F22E7E164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F660AD-63FA-4F8B-81B7-AD23B3AC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22A3F4-C0B6-4377-890F-41A7CD2F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0793BB-A560-44EF-8428-579A3E2D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CCDBC4-722A-4EED-A0DA-0A642B6A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08F043-B2E8-448A-8835-33C29604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5C3DCA-3D5F-4F72-9B03-D48B5431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5641F1-9662-4ED7-896D-4E33EED8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DAA58C-FE05-4A61-B40C-73B40700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594319-3E09-4D14-8326-A77A2315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C199BC-F531-4572-BE48-2A048261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B6E593-B493-43BF-9925-566ED7AA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E79C70-111E-419F-9611-8FD0D5513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21F607-5B84-482F-BDD9-20323D87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F9D3D3-C98C-4F28-8A16-0EF16995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42E575-A1EC-40E2-8931-1A85BB43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146C68-51E3-4550-BFAC-07DBCCC9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06C950-B31C-400E-B0C2-AA5138F0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304342-B26A-4CA9-A4E5-134E1AE7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28AA0D-C697-4461-8DA6-7E9D84A6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F1A20C-F9C2-449F-AC9D-6F299EF7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798B58-BAB4-49C0-AA3C-6CC9DEBE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C69CA4-23B3-4035-882C-E35E72EF3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DA505D-62F6-46B9-9E5C-0C3DBD2E8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9D53AE-EEA2-41BE-B8E6-BE262116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44E594-5258-4EC9-9A48-ED2A8B90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A73442-941A-463E-8F81-03A5666C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866612-1542-4A7E-A7A9-EF68BE91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C9E094-369B-4846-BA7C-2355680D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F36109-6C5B-4505-B589-F5B016B9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985AF0-3E05-4F2A-AAE0-33ACFACA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1F0FBF-DEEE-4787-A398-C97ACAFF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623FA3-9C72-4876-BC1E-A01A97BA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981ABE-EED5-46D9-A61C-F4B3CDD8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A27971-66A0-481E-AC31-8F32FE142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67A6F6-10FF-4A16-821C-A71F6D969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7D3387-8EFE-4E25-9656-EB922165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8DA0C1-AE14-48CD-9DD4-DFA28AF4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9BF169-22C9-46BE-B79B-7859DBAC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647C7A-EAF8-43B6-8B58-8992927E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179219-DEAA-4201-920E-20DF0300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14F6CB-2C2F-4E82-B25B-BCB8319F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E0A968-B3B4-4B56-A029-1BA6FB13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E3E077-69D1-4A08-989D-346AC85A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5519EC-1DDA-4A5B-A792-EEF976CE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29F5E6-150D-4C89-8A54-3CDB5745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9C76AF-38F4-4276-9D13-E8ABA28D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D5411A-2498-4BEF-B6AB-70348BD2F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5C59D3-BADC-42FB-B7D0-DC10D173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9CEAF9-059D-437E-B13F-9470D4F5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E43260-0444-4FC2-9C06-82053C17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6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7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10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1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3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64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65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467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68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0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471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72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3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74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6ECB-9243-4FAC-BF7F-C6407486381B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5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2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9282-CDC9-4A3E-AEBA-403A87F9C4E5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6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17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519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20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523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24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5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26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2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7F21-56EB-4E3F-BE24-33D9DA7FE07A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28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2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A360-AF27-4F32-844A-567532869E72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68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69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571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72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575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76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7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78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3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E29F-18A3-4292-B7E8-607F12A0161F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31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3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E510-15BF-44BC-A8F5-1A28D99639E1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1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53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4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57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8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60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2"/>
          </p:nvPr>
        </p:nvSpPr>
        <p:spPr>
          <a:xfrm>
            <a:off x="2481120" y="6152760"/>
            <a:ext cx="418176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0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01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103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04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107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08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10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47F4-086E-4734-9AE8-3AB2D96950E4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4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059D-9688-45E4-8BF3-DA2716FE3A01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52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53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155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56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159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60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1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62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CD4E-44A2-45F2-B19B-D8E5BC3CB9A7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7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73FF-8BD8-4269-AC21-9606E41F252A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04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05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207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08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211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12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3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14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CDDB-B675-4E41-8B5C-43AB59475534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0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C39D-590D-4DBA-A173-12A35A23F54C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6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57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259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60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263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64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5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66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08F8-8191-4F58-8EFB-C8AE54C56A42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27A5-73F1-4057-A8DC-CF9D24F518BF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08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09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311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12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315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16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7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18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1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B5A6-3EFC-404F-AFC4-0CC5376CB46F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16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1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C63B-74B2-4FBF-BCA7-8FE038EA272E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60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61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363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64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367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68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9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70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16D0-DA47-431B-A86B-C8F21C176B10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9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BFB6-4155-46AD-B1BC-1175D82DDB09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2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13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415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16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419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20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21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22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572D-55D1-4692-A55C-4C88E8C4CDAA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2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1215-DA6C-4CAE-8CA9-629A8252914A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oster_competition@nsi.bg" TargetMode="Externa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nsi.bg/islp2025/islp.htm" TargetMode="External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1425600"/>
            <a:ext cx="7531200" cy="217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b1ac"/>
                </a:solidFill>
                <a:latin typeface="Calibri"/>
                <a:ea typeface="Meiryo UI"/>
              </a:rPr>
              <a:t>МЕЖДУНАРОДЕН КОНКУРС </a:t>
            </a:r>
            <a:br>
              <a:rPr sz="3600"/>
            </a:br>
            <a:r>
              <a:rPr b="1" lang="bg-BG" sz="3600" spc="-1" strike="noStrike">
                <a:solidFill>
                  <a:srgbClr val="00b1ac"/>
                </a:solidFill>
                <a:latin typeface="Calibri"/>
                <a:ea typeface="Meiryo UI"/>
              </a:rPr>
              <a:t>ЗА СТАТИСТИЧЕСКИ</a:t>
            </a:r>
            <a:br>
              <a:rPr sz="3600"/>
            </a:br>
            <a:r>
              <a:rPr b="1" lang="bg-BG" sz="3600" spc="-1" strike="noStrike">
                <a:solidFill>
                  <a:srgbClr val="00b1ac"/>
                </a:solidFill>
                <a:latin typeface="Calibri"/>
                <a:ea typeface="Meiryo UI"/>
              </a:rPr>
              <a:t>ПЛАКАТ </a:t>
            </a:r>
            <a:r>
              <a:rPr b="1" lang="bg-BG" sz="3600" spc="-1" strike="noStrike">
                <a:solidFill>
                  <a:srgbClr val="00aca8"/>
                </a:solidFill>
                <a:latin typeface="Calibri"/>
                <a:ea typeface="Meiryo UI"/>
              </a:rPr>
              <a:t>2024 - 2025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99680" y="3602160"/>
            <a:ext cx="321012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b1ac"/>
                </a:solidFill>
                <a:latin typeface="Calibri"/>
              </a:rPr>
              <a:t>Наташа Марин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b1ac"/>
                </a:solidFill>
                <a:latin typeface="Calibri"/>
              </a:rPr>
              <a:t>Национален статистически институ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poster_competition@nsi.bg</a:t>
            </a:r>
            <a:r>
              <a:rPr b="0" lang="en-US" sz="2000" spc="-1" strike="noStrike">
                <a:solidFill>
                  <a:srgbClr val="00b1ac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1ac"/>
                </a:solidFill>
                <a:latin typeface="Calibri"/>
              </a:rPr>
              <a:t>1</a:t>
            </a:r>
            <a:r>
              <a:rPr b="0" lang="bg-BG" sz="2000" spc="-1" strike="noStrike">
                <a:solidFill>
                  <a:srgbClr val="00b1ac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b1ac"/>
                </a:solidFill>
                <a:latin typeface="Calibri"/>
              </a:rPr>
              <a:t> </a:t>
            </a:r>
            <a:r>
              <a:rPr b="0" lang="bg-BG" sz="2000" spc="-1" strike="noStrike">
                <a:solidFill>
                  <a:srgbClr val="00b1ac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00b1ac"/>
                </a:solidFill>
                <a:latin typeface="Calibri"/>
              </a:rPr>
              <a:t> 1</a:t>
            </a:r>
            <a:r>
              <a:rPr b="0" lang="bg-BG" sz="2000" spc="-1" strike="noStrike">
                <a:solidFill>
                  <a:srgbClr val="00b1ac"/>
                </a:solidFill>
                <a:latin typeface="Calibri"/>
              </a:rPr>
              <a:t>4</a:t>
            </a:r>
            <a:r>
              <a:rPr b="0" lang="en-US" sz="2000" spc="-1" strike="noStrike">
                <a:solidFill>
                  <a:srgbClr val="00b1ac"/>
                </a:solidFill>
                <a:latin typeface="Calibri"/>
              </a:rPr>
              <a:t> </a:t>
            </a:r>
            <a:r>
              <a:rPr b="0" lang="bg-BG" sz="2000" spc="-1" strike="noStrike">
                <a:solidFill>
                  <a:srgbClr val="00b1ac"/>
                </a:solidFill>
                <a:latin typeface="Calibri"/>
              </a:rPr>
              <a:t>декември 2024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b1ac"/>
                </a:solidFill>
                <a:latin typeface="Calibri"/>
              </a:rPr>
              <a:t>Хисар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Footer Placeholder 3"/>
          <p:cNvSpPr/>
          <p:nvPr/>
        </p:nvSpPr>
        <p:spPr>
          <a:xfrm>
            <a:off x="2481120" y="5805360"/>
            <a:ext cx="4181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3" name="Picture 6" descr=""/>
          <p:cNvPicPr/>
          <p:nvPr/>
        </p:nvPicPr>
        <p:blipFill>
          <a:blip r:embed="rId2"/>
          <a:stretch/>
        </p:blipFill>
        <p:spPr>
          <a:xfrm>
            <a:off x="7045200" y="4578480"/>
            <a:ext cx="16606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Footer Placeholder 1"/>
          <p:cNvSpPr/>
          <p:nvPr/>
        </p:nvSpPr>
        <p:spPr>
          <a:xfrm>
            <a:off x="2378160" y="5894280"/>
            <a:ext cx="4201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2"/>
          <p:cNvSpPr/>
          <p:nvPr/>
        </p:nvSpPr>
        <p:spPr>
          <a:xfrm>
            <a:off x="534960" y="2798640"/>
            <a:ext cx="78930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b1ac"/>
                </a:solidFill>
                <a:latin typeface="Meiryo UI"/>
                <a:ea typeface="Meiryo UI"/>
              </a:rPr>
              <a:t>Допълнителна информация може да намерите на сайта на състезанието: </a:t>
            </a:r>
            <a:r>
              <a:rPr b="0" lang="bg-BG" sz="2000" spc="-1" strike="noStrike" u="sng">
                <a:solidFill>
                  <a:srgbClr val="0563c1"/>
                </a:solidFill>
                <a:uFillTx/>
                <a:latin typeface="Meiryo UI"/>
                <a:ea typeface="Meiryo UI"/>
                <a:hlinkClick r:id="rId1"/>
              </a:rPr>
              <a:t>https://www.nsi.bg/islp2025/islp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318680" y="2070000"/>
            <a:ext cx="654876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b1ac"/>
                </a:solidFill>
                <a:latin typeface="Calibri"/>
                <a:ea typeface="Meiryo UI"/>
              </a:rPr>
              <a:t>МЕЖДУНАРОДЕН КОНКУРС ЗА СТАТИСТИЧЕСКИ</a:t>
            </a:r>
            <a:br>
              <a:rPr sz="1800"/>
            </a:br>
            <a:r>
              <a:rPr b="1" lang="bg-BG" sz="1800" spc="-1" strike="noStrike">
                <a:solidFill>
                  <a:srgbClr val="00b1ac"/>
                </a:solidFill>
                <a:latin typeface="Calibri"/>
                <a:ea typeface="Meiryo UI"/>
              </a:rPr>
              <a:t>ПЛАКАТ </a:t>
            </a:r>
            <a:r>
              <a:rPr b="1" lang="bg-BG" sz="1800" spc="-1" strike="noStrike">
                <a:solidFill>
                  <a:srgbClr val="00c8c3"/>
                </a:solidFill>
                <a:latin typeface="Calibri"/>
                <a:ea typeface="Meiryo UI"/>
              </a:rPr>
              <a:t>2024 - 2025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344160" y="1991880"/>
            <a:ext cx="8488440" cy="496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00b1ac"/>
                </a:solidFill>
                <a:latin typeface="Meiryo UI"/>
              </a:rPr>
              <a:t>Цели на конкурса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b1ac"/>
                </a:solidFill>
                <a:latin typeface="Meiryo UI"/>
              </a:rPr>
              <a:t>Да се подобрят способностите на учениците да описват средата, в която живеят, с помощта на статистиката и да използват статистическите данни ежедневно като инструмент за изучаване на живота</a:t>
            </a:r>
            <a:r>
              <a:rPr b="0" lang="ru-RU" sz="1700" spc="-1" strike="noStrike">
                <a:solidFill>
                  <a:srgbClr val="00b1ac"/>
                </a:solidFill>
                <a:latin typeface="Meiryo U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00b1ac"/>
                </a:solidFill>
                <a:latin typeface="Meiryo UI"/>
              </a:rPr>
              <a:t>Защо плакат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b1ac"/>
                </a:solidFill>
                <a:latin typeface="Meiryo UI"/>
              </a:rPr>
              <a:t>Участието в конкурса за плакати ще насърчи учениците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b1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b1ac"/>
                </a:solidFill>
                <a:latin typeface="Meiryo UI"/>
              </a:rPr>
              <a:t>да работят в екип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b1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b1ac"/>
                </a:solidFill>
                <a:latin typeface="Meiryo UI"/>
              </a:rPr>
              <a:t>да изследват реални въпроси, които ги вълнуват, като използват статистически данн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b1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b1ac"/>
                </a:solidFill>
                <a:latin typeface="Meiryo UI"/>
              </a:rPr>
              <a:t>да използват своите математически и графически умени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b1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b1ac"/>
                </a:solidFill>
                <a:latin typeface="Meiryo UI"/>
              </a:rPr>
              <a:t>да интерпретират статистически резултат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b1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b1ac"/>
                </a:solidFill>
                <a:latin typeface="Meiryo UI"/>
              </a:rPr>
              <a:t>да развиват писмени комуникационни </a:t>
            </a:r>
            <a:r>
              <a:rPr b="0" lang="ru-RU" sz="1700" spc="-1" strike="noStrike">
                <a:solidFill>
                  <a:srgbClr val="00b1ac"/>
                </a:solidFill>
                <a:latin typeface="Meiryo UI"/>
              </a:rPr>
              <a:t>умения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Footer Placeholder 3"/>
          <p:cNvSpPr/>
          <p:nvPr/>
        </p:nvSpPr>
        <p:spPr>
          <a:xfrm>
            <a:off x="2481120" y="6153120"/>
            <a:ext cx="4181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4" descr=""/>
          <p:cNvPicPr/>
          <p:nvPr/>
        </p:nvPicPr>
        <p:blipFill>
          <a:blip r:embed="rId1"/>
          <a:stretch/>
        </p:blipFill>
        <p:spPr>
          <a:xfrm>
            <a:off x="7296120" y="1351080"/>
            <a:ext cx="16606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28560" y="1248840"/>
            <a:ext cx="7886880" cy="9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bg-BG" sz="2400" spc="-1" strike="noStrike">
                <a:solidFill>
                  <a:srgbClr val="00b1ac"/>
                </a:solidFill>
                <a:latin typeface="Calibri"/>
                <a:ea typeface="Meiryo UI"/>
              </a:rPr>
              <a:t>МЕЖДУНАРОДЕН КОНКУРС ЗА СТАТИСТИЧЕСКИ ПЛАКАТ 2024 - 2025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28560" y="2166480"/>
            <a:ext cx="788688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1ac"/>
                </a:solidFill>
                <a:latin typeface="Calibri"/>
              </a:rPr>
              <a:t>Четири категори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1ac"/>
                </a:solidFill>
                <a:latin typeface="Calibri"/>
              </a:rPr>
              <a:t>1. Ученици, родени между 2013 г. и 2015 г. вкл. (на възраст 9 - 11 г.) - НОВО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1ac"/>
                </a:solidFill>
                <a:latin typeface="Calibri"/>
              </a:rPr>
              <a:t>2. Ученици, родени между 2009 г. и 2012 г. вкл. (на възраст 12 - 15 г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1ac"/>
                </a:solidFill>
                <a:latin typeface="Calibri"/>
              </a:rPr>
              <a:t>3. Ученици, родени между 2006 г. и 2008 г. вкл. (на възраст 16 - 18 г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1ac"/>
                </a:solidFill>
                <a:latin typeface="Calibri"/>
              </a:rPr>
              <a:t>4. Студенти, преди да завършат бакалавърска степен в университет/колеж (в процес на обучение, не се допускат дипломни работи за бакалавърска или магистърска степен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b1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Footer Placeholder 3"/>
          <p:cNvSpPr/>
          <p:nvPr/>
        </p:nvSpPr>
        <p:spPr>
          <a:xfrm>
            <a:off x="2471760" y="5715000"/>
            <a:ext cx="4200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1" name="Picture 4" descr=""/>
          <p:cNvPicPr/>
          <p:nvPr/>
        </p:nvPicPr>
        <p:blipFill>
          <a:blip r:embed="rId1"/>
          <a:stretch/>
        </p:blipFill>
        <p:spPr>
          <a:xfrm>
            <a:off x="6856560" y="5087880"/>
            <a:ext cx="16588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1"/>
          <p:cNvSpPr/>
          <p:nvPr/>
        </p:nvSpPr>
        <p:spPr>
          <a:xfrm>
            <a:off x="2378160" y="5894280"/>
            <a:ext cx="4201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Rectangle 2"/>
          <p:cNvSpPr/>
          <p:nvPr/>
        </p:nvSpPr>
        <p:spPr>
          <a:xfrm>
            <a:off x="587520" y="1146240"/>
            <a:ext cx="726264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b1ac"/>
                </a:solidFill>
                <a:latin typeface="Meiryo UI"/>
                <a:ea typeface="Meiryo UI"/>
              </a:rPr>
              <a:t>Национален кръ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b1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b1ac"/>
                </a:solidFill>
                <a:latin typeface="Meiryo UI"/>
                <a:ea typeface="Meiryo UI"/>
              </a:rPr>
              <a:t>Регистрация – до 3 януари 2025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b1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b1ac"/>
                </a:solidFill>
                <a:latin typeface="Meiryo UI"/>
                <a:ea typeface="Meiryo UI"/>
              </a:rPr>
              <a:t>Зададена тема - </a:t>
            </a:r>
            <a:r>
              <a:rPr b="0" lang="ru-RU" sz="1800" spc="-1" strike="noStrike">
                <a:solidFill>
                  <a:srgbClr val="00b1ac"/>
                </a:solidFill>
                <a:latin typeface="Meiryo UI"/>
                <a:ea typeface="Meiryo UI"/>
              </a:rPr>
              <a:t>Няма ограничение за темата на плака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b1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b1ac"/>
                </a:solidFill>
                <a:latin typeface="Meiryo UI"/>
                <a:ea typeface="Meiryo UI"/>
              </a:rPr>
              <a:t>Предаване на плакатите - </a:t>
            </a:r>
            <a:r>
              <a:rPr b="0" lang="ru-RU" sz="1800" spc="-1" strike="noStrike">
                <a:solidFill>
                  <a:srgbClr val="00b1ac"/>
                </a:solidFill>
                <a:latin typeface="Meiryo UI"/>
                <a:ea typeface="Meiryo UI"/>
              </a:rPr>
              <a:t>до 4 март 2025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b1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1ac"/>
                </a:solidFill>
                <a:latin typeface="Meiryo UI"/>
                <a:ea typeface="Meiryo UI"/>
              </a:rPr>
              <a:t>Оценяване на участвалите плакати: от 5 март до 31 март 2025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b1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1ac"/>
                </a:solidFill>
                <a:latin typeface="Meiryo UI"/>
                <a:ea typeface="Meiryo UI"/>
              </a:rPr>
              <a:t>Обявяване на националните победители: 7 април 2025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3"/>
          <p:cNvSpPr/>
          <p:nvPr/>
        </p:nvSpPr>
        <p:spPr>
          <a:xfrm>
            <a:off x="2378160" y="3835440"/>
            <a:ext cx="63086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b1ac"/>
                </a:solidFill>
                <a:latin typeface="Meiryo UI"/>
                <a:ea typeface="Meiryo UI"/>
              </a:rPr>
              <a:t>Международен кръ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b1ac"/>
                </a:solidFill>
                <a:latin typeface="Meiryo UI"/>
                <a:ea typeface="Meiryo UI"/>
              </a:rPr>
              <a:t>Оценяване на първенците от всички стра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b1ac"/>
                </a:solidFill>
                <a:latin typeface="Meiryo UI"/>
                <a:ea typeface="Meiryo UI"/>
              </a:rPr>
              <a:t>Награждаване на победителите в трите категории на </a:t>
            </a:r>
            <a:r>
              <a:rPr b="0" lang="ru-RU" sz="1800" spc="-1" strike="noStrike">
                <a:solidFill>
                  <a:srgbClr val="00b1ac"/>
                </a:solidFill>
                <a:latin typeface="Meiryo UI"/>
                <a:ea typeface="Meiryo UI"/>
              </a:rPr>
              <a:t>65-ия Световен статистически конгрес на Международния статистически институт (ISI) в Хага, Нидерландия, от 13 до 17 юли 2025 годи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Picture 4" descr=""/>
          <p:cNvPicPr/>
          <p:nvPr/>
        </p:nvPicPr>
        <p:blipFill>
          <a:blip r:embed="rId1"/>
          <a:stretch/>
        </p:blipFill>
        <p:spPr>
          <a:xfrm>
            <a:off x="587520" y="4621320"/>
            <a:ext cx="16588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ooter Placeholder 1"/>
          <p:cNvSpPr/>
          <p:nvPr/>
        </p:nvSpPr>
        <p:spPr>
          <a:xfrm>
            <a:off x="2378160" y="5894280"/>
            <a:ext cx="4201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344520" y="-343080"/>
            <a:ext cx="7074000" cy="68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b1ac"/>
                </a:solidFill>
                <a:latin typeface="Meiryo UI"/>
                <a:ea typeface="Meiryo UI"/>
              </a:rPr>
              <a:t>Списък на дейностите, които трябва да се осъществя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b1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b1ac"/>
                </a:solidFill>
                <a:latin typeface="Meiryo UI"/>
                <a:ea typeface="Meiryo UI"/>
              </a:rPr>
              <a:t>Регистриране на отборите във формата за регистрация на сайта на конкурс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b1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b1ac"/>
                </a:solidFill>
                <a:latin typeface="Meiryo UI"/>
                <a:ea typeface="Meiryo UI"/>
              </a:rPr>
              <a:t>Запознаване на участниците с насоките за изготвяне на статистически плака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b1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b1ac"/>
                </a:solidFill>
                <a:latin typeface="Meiryo UI"/>
                <a:ea typeface="Meiryo UI"/>
              </a:rPr>
              <a:t>Осигуряване на възможност на участниците да работят по създаването на плакати в училище и/или като домашна рабо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b1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b1ac"/>
                </a:solidFill>
                <a:latin typeface="Meiryo UI"/>
                <a:ea typeface="Meiryo UI"/>
              </a:rPr>
              <a:t>Изпращане на плаката/ите (само един плакат за всяка категория) на координатора за България на имейл poster_competition@nsi.bg или по традиционна поща в НСИ на адрес: ул. „Панайот Волов“ №2, гр. София, ПК 103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b1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b1ac"/>
                </a:solidFill>
                <a:latin typeface="Meiryo UI"/>
                <a:ea typeface="Meiryo UI"/>
              </a:rPr>
              <a:t>Подготвяне на отделно приложение с информация за участниците (изпраща се заедно с плаката!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b1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b1ac"/>
                </a:solidFill>
                <a:latin typeface="Meiryo UI"/>
                <a:ea typeface="Meiryo UI"/>
              </a:rPr>
              <a:t>Плакатът е АНОНИМЕН - на него не трябва да присъстват имената на участниците или учебната институция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8" name="Picture 3" descr=""/>
          <p:cNvPicPr/>
          <p:nvPr/>
        </p:nvPicPr>
        <p:blipFill>
          <a:blip r:embed="rId1"/>
          <a:stretch/>
        </p:blipFill>
        <p:spPr>
          <a:xfrm>
            <a:off x="7418520" y="1332000"/>
            <a:ext cx="1484280" cy="11221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4" descr=""/>
          <p:cNvPicPr/>
          <p:nvPr/>
        </p:nvPicPr>
        <p:blipFill>
          <a:blip r:embed="rId2"/>
          <a:stretch/>
        </p:blipFill>
        <p:spPr>
          <a:xfrm>
            <a:off x="7243920" y="4662360"/>
            <a:ext cx="165888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ooter Placeholder 1"/>
          <p:cNvSpPr/>
          <p:nvPr/>
        </p:nvSpPr>
        <p:spPr>
          <a:xfrm>
            <a:off x="2378160" y="5894280"/>
            <a:ext cx="4201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Rectangle 2"/>
          <p:cNvSpPr/>
          <p:nvPr/>
        </p:nvSpPr>
        <p:spPr>
          <a:xfrm>
            <a:off x="2378160" y="1346040"/>
            <a:ext cx="5600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b1ac"/>
                </a:solidFill>
                <a:latin typeface="Calibri"/>
              </a:rPr>
              <a:t>                 </a:t>
            </a:r>
            <a:r>
              <a:rPr b="1" lang="bg-BG" sz="3600" spc="-1" strike="noStrike">
                <a:solidFill>
                  <a:srgbClr val="00b1ac"/>
                </a:solidFill>
                <a:latin typeface="Calibri Light"/>
                <a:ea typeface="Calibri Light"/>
              </a:rPr>
              <a:t>Анализ на резултатит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b1ac"/>
                </a:solidFill>
                <a:latin typeface="Calibri Light"/>
                <a:ea typeface="Calibri Light"/>
              </a:rPr>
              <a:t>	</a:t>
            </a:r>
            <a:r>
              <a:rPr b="1" lang="bg-BG" sz="3600" spc="-1" strike="noStrike">
                <a:solidFill>
                  <a:srgbClr val="00b1ac"/>
                </a:solidFill>
                <a:latin typeface="Calibri Light"/>
                <a:ea typeface="Calibri Light"/>
              </a:rPr>
              <a:t>	</a:t>
            </a:r>
            <a:r>
              <a:rPr b="1" lang="bg-BG" sz="3600" spc="-1" strike="noStrike">
                <a:solidFill>
                  <a:srgbClr val="00b1ac"/>
                </a:solidFill>
                <a:latin typeface="Calibri Light"/>
                <a:ea typeface="Calibri Light"/>
              </a:rPr>
              <a:t>2022 - 202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Rectangle 3"/>
          <p:cNvSpPr/>
          <p:nvPr/>
        </p:nvSpPr>
        <p:spPr>
          <a:xfrm flipV="1" rot="10800000">
            <a:off x="1966680" y="3081960"/>
            <a:ext cx="5607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b1ac"/>
                </a:solidFill>
                <a:latin typeface="Calibri Light"/>
                <a:ea typeface="Calibri Light"/>
              </a:rPr>
              <a:t>Общо регистрирани отбори - 16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b1ac"/>
                </a:solidFill>
                <a:latin typeface="Calibri Light"/>
                <a:ea typeface="Calibri Light"/>
              </a:rPr>
              <a:t>Населени места - 3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b1ac"/>
                </a:solidFill>
                <a:latin typeface="Calibri Light"/>
                <a:ea typeface="Calibri Light"/>
              </a:rPr>
              <a:t>Общ брой ученици - 52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3" name="Picture 4" descr=""/>
          <p:cNvPicPr/>
          <p:nvPr/>
        </p:nvPicPr>
        <p:blipFill>
          <a:blip r:embed="rId1"/>
          <a:stretch/>
        </p:blipFill>
        <p:spPr>
          <a:xfrm>
            <a:off x="687240" y="1155600"/>
            <a:ext cx="1279800" cy="1100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Footer Placeholder 1"/>
          <p:cNvSpPr/>
          <p:nvPr/>
        </p:nvSpPr>
        <p:spPr>
          <a:xfrm>
            <a:off x="2378160" y="5894280"/>
            <a:ext cx="4201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Rectangle 2"/>
          <p:cNvSpPr/>
          <p:nvPr/>
        </p:nvSpPr>
        <p:spPr>
          <a:xfrm>
            <a:off x="1297080" y="3230640"/>
            <a:ext cx="674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b1ac"/>
                </a:solidFill>
                <a:latin typeface="Calibri"/>
                <a:ea typeface="Meiryo UI"/>
              </a:rPr>
              <a:t>Най-активни бяха учениците от</a:t>
            </a:r>
            <a:r>
              <a:rPr b="1" lang="ru-RU" sz="2000" spc="-1" strike="noStrike">
                <a:solidFill>
                  <a:srgbClr val="00b1ac"/>
                </a:solidFill>
                <a:latin typeface="Calibri"/>
                <a:ea typeface="Meiryo UI"/>
              </a:rPr>
              <a:t> София - 35, следвани от Варна - 24, и Добрич - 19 плак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6" name="Picture 3" descr=""/>
          <p:cNvPicPr/>
          <p:nvPr/>
        </p:nvPicPr>
        <p:blipFill>
          <a:blip r:embed="rId1"/>
          <a:stretch/>
        </p:blipFill>
        <p:spPr>
          <a:xfrm>
            <a:off x="901800" y="1398600"/>
            <a:ext cx="1279440" cy="1100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Footer Placeholder 1"/>
          <p:cNvSpPr/>
          <p:nvPr/>
        </p:nvSpPr>
        <p:spPr>
          <a:xfrm>
            <a:off x="2378160" y="5894280"/>
            <a:ext cx="4201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Rectangle 2"/>
          <p:cNvSpPr/>
          <p:nvPr/>
        </p:nvSpPr>
        <p:spPr>
          <a:xfrm>
            <a:off x="3079800" y="1138320"/>
            <a:ext cx="23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b1ac"/>
                </a:solidFill>
                <a:latin typeface="Verdana"/>
                <a:ea typeface="Verdana"/>
              </a:rPr>
              <a:t>Победител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Rectangle 3"/>
          <p:cNvSpPr/>
          <p:nvPr/>
        </p:nvSpPr>
        <p:spPr>
          <a:xfrm>
            <a:off x="2052720" y="1424160"/>
            <a:ext cx="6538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 u="sng">
                <a:solidFill>
                  <a:srgbClr val="00b1ac"/>
                </a:solidFill>
                <a:uFillTx/>
                <a:latin typeface="Verdana"/>
                <a:ea typeface="Verdana"/>
              </a:rPr>
              <a:t>Категория 1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d9617"/>
                </a:solidFill>
                <a:latin typeface="Calibri"/>
              </a:rPr>
              <a:t>1-во място: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Отбор „БДС“, СУ „Св. Константин-Кирил Философ“, Пловдив, с плакат: „Без тормоз и насилие в училището ни“, 98.5 точ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d9617"/>
                </a:solidFill>
                <a:latin typeface="Calibri"/>
              </a:rPr>
              <a:t>2-ро място: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Отбор „PANTERS“, МГ „Д-р Петър Берон“, Варна, с плакат: „Стресът в човешкия живот“, 98 точ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ed9617"/>
                </a:solidFill>
                <a:latin typeface="Calibri"/>
              </a:rPr>
              <a:t>3-то място: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бор „ГрафКо“, СУ „Димитър Маринов“, Лом, с плакат: „BROWN BEAR“, 97 точ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Rectangle 4"/>
          <p:cNvSpPr/>
          <p:nvPr/>
        </p:nvSpPr>
        <p:spPr>
          <a:xfrm>
            <a:off x="0" y="3138480"/>
            <a:ext cx="7186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 u="sng">
                <a:solidFill>
                  <a:srgbClr val="00b1ac"/>
                </a:solidFill>
                <a:uFillTx/>
                <a:latin typeface="Verdana"/>
                <a:ea typeface="Verdana"/>
              </a:rPr>
              <a:t>Категория 2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d9617"/>
                </a:solidFill>
                <a:latin typeface="Calibri"/>
              </a:rPr>
              <a:t>1-во място: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Отбор „TELBOD“, НТГ, Пловдив, с плакат: „Полярни вести“, 97.5 точ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ed9617"/>
                </a:solidFill>
                <a:latin typeface="Calibri"/>
              </a:rPr>
              <a:t>2-ро място: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бор „PMG_ON_TOP“, ПМГ „Св. Климент Охридски“, Силистра, с плакат: „Можем ли без зависимости“, 93 точ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ed9617"/>
                </a:solidFill>
                <a:latin typeface="Calibri"/>
              </a:rPr>
              <a:t>3-то място: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бор „The heart of nation“, ПГИИ „Джон Атанасов“, Търговище, с плакат: „Нива на самоубийства в Южна Корея“, 92 точ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Rectangle 5"/>
          <p:cNvSpPr/>
          <p:nvPr/>
        </p:nvSpPr>
        <p:spPr>
          <a:xfrm flipV="1" rot="10800000">
            <a:off x="12240" y="4696920"/>
            <a:ext cx="7548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 u="sng">
                <a:solidFill>
                  <a:srgbClr val="00b1ac"/>
                </a:solidFill>
                <a:uFillTx/>
                <a:latin typeface="Verdana"/>
                <a:ea typeface="Verdana"/>
              </a:rPr>
              <a:t>Категория 3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d9617"/>
                </a:solidFill>
                <a:latin typeface="Calibri"/>
              </a:rPr>
              <a:t>1-во място: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Отбор „K\DA“, Технически университет - София, с плакат: „Мястото на жената в модерния свят“, 94 точ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ed9617"/>
                </a:solidFill>
                <a:latin typeface="Calibri"/>
              </a:rPr>
              <a:t>2-ро място: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бор „MIK Group“, Русенски университет, с плакат: „Изкуственият интелект в развитието и бъдещето на бизнеса“, 91 точ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2" name="Picture 6" descr=""/>
          <p:cNvPicPr/>
          <p:nvPr/>
        </p:nvPicPr>
        <p:blipFill>
          <a:blip r:embed="rId1"/>
          <a:stretch/>
        </p:blipFill>
        <p:spPr>
          <a:xfrm>
            <a:off x="241200" y="1258920"/>
            <a:ext cx="1611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Footer Placeholder 1"/>
          <p:cNvSpPr/>
          <p:nvPr/>
        </p:nvSpPr>
        <p:spPr>
          <a:xfrm>
            <a:off x="2378160" y="5894280"/>
            <a:ext cx="4201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Rectangle 2"/>
          <p:cNvSpPr/>
          <p:nvPr/>
        </p:nvSpPr>
        <p:spPr>
          <a:xfrm>
            <a:off x="638280" y="2554200"/>
            <a:ext cx="45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b1ac"/>
                </a:solidFill>
                <a:latin typeface="Meiryo UI"/>
              </a:rPr>
              <a:t>Наград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638280" y="3386160"/>
            <a:ext cx="557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b1ac"/>
                </a:solidFill>
                <a:latin typeface="Meiryo UI"/>
                <a:ea typeface="Meiryo UI"/>
              </a:rPr>
              <a:t>Предметни (за победителит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b1ac"/>
                </a:solidFill>
                <a:latin typeface="Meiryo UI"/>
                <a:ea typeface="Meiryo UI"/>
              </a:rPr>
              <a:t>Всички участници ще получат грамо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6" name="Picture 4" descr=""/>
          <p:cNvPicPr/>
          <p:nvPr/>
        </p:nvPicPr>
        <p:blipFill>
          <a:blip r:embed="rId1"/>
          <a:stretch/>
        </p:blipFill>
        <p:spPr>
          <a:xfrm>
            <a:off x="6580080" y="1432080"/>
            <a:ext cx="2127240" cy="160812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5" descr=""/>
          <p:cNvPicPr/>
          <p:nvPr/>
        </p:nvPicPr>
        <p:blipFill>
          <a:blip r:embed="rId2"/>
          <a:stretch/>
        </p:blipFill>
        <p:spPr>
          <a:xfrm>
            <a:off x="6580080" y="4594320"/>
            <a:ext cx="190368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7T14:39:36Z</dcterms:created>
  <dc:creator>Kostadin Georgiev</dc:creator>
  <dc:description/>
  <dc:language>en-US</dc:language>
  <cp:lastModifiedBy>Natasha Petrova-Marinova</cp:lastModifiedBy>
  <dcterms:modified xsi:type="dcterms:W3CDTF">2024-12-11T09:27:47Z</dcterms:modified>
  <cp:revision>32</cp:revision>
  <dc:subject/>
  <dc:title>PowerPoint Presentation</dc:title>
</cp:coreProperties>
</file>